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C66F-4DF6-4E6E-847B-2ECE9A16A4D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233F-EAFE-4F74-93B2-13877B1A25B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D079-A1FC-474E-B7CD-663E972C1C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5AC4-9257-4894-B561-98B7C61C66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5C35-F2EB-46C9-B8DF-52E8DFE94B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ECE3-7721-4D8E-B455-F818BCBCCB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AEE9-3852-4B5D-BEB4-152A346DBF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BA8C-2C8F-4202-8E07-2497EA9257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175E-BD55-4BB1-8D87-ACE935D2261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98379-BD98-438F-91B5-97B0227E7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BA18-BFE6-4191-BF94-8AAD7937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91248-09A1-4536-A490-60535F64D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37B07-8B81-49EE-AEBB-B4DB8FE97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B7646-4EE9-4B81-9210-7EB50E825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571F-3FD7-4DC6-AC3E-14A0C2ECC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7EE8A-4CC6-4906-A3CC-D1A474CBD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58A2D-B936-440B-9E97-DEEE3CCC2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160C0-EA4E-47E6-B662-873AB995F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D9678-C510-4278-A9FE-C18122A36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FED44-80A6-4966-BFBE-B6556F74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E3059-458E-413F-86F4-93942A69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CE88-445F-4088-959C-D6BAE307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B4D86-34FB-4577-9FC8-6C370CBBC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EA464-9906-4AE8-892D-8C54D6F8A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986F5-4C18-448B-8758-BA7DA9778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87E85-A8EF-4E1E-97FF-F60DD6F60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8B4EE-A2AA-42AA-BFF5-AD08DE44A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5C3AA-7F44-4AB3-AB97-F7A6522FC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7E30A-346E-46DF-8634-879DE7275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FD071-2DFE-4FF4-9EB0-194606DCA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9B8C2-004C-476F-9C2A-A5B55BE76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93563-9DB3-4717-A9CD-32B68821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22BB6-4266-4935-B4B8-8CD5F2A51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DCE34-5CD4-4866-911B-C955789EC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BCC68-DF5B-47A5-9BF4-0EA8936CF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552F9-D10A-4305-A678-F6C115404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311D9-D083-4EF0-8614-F7D93EF42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3B649-9FA7-4265-A453-D6E10BE82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7522D-49A3-42CF-9097-47C908573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8637A3-6A21-4FE1-822E-5C5B5858B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9928C-2E2F-441F-9FBB-7CA0EFA36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554D0-D982-4458-8D6A-8659B93EF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5EE79-AA72-4A04-93CF-608AA788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E0B3F-0490-477A-80FC-D93E02885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C19FC-F4FF-484F-BF02-CF2C02FE4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0106A-A2A0-43AC-BDDF-80BAC7B01B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00E81-8D1B-40A6-A1E6-CB62D3AF6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5D1F0-5F6D-4BC8-8AAA-026B3ECF5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97D58-ECF5-4ADD-B3B9-F5C855024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FA6A7-48DA-4137-9E5C-AE0987489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EFCBF-9D79-4DFA-A50B-3488DC0B1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99733C-8FEA-4A38-94C8-F51628905B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4F4F8F-9892-4E50-B547-FA07F3689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5934F-D02A-465D-80B5-4BBB3125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CF14B-E257-430D-A035-4F3C53B0E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96A40-F8D7-4B16-B2E2-6C79922DA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2BC6A-324E-44B5-B7DF-BD55B62C4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71A05-78D1-44B6-9932-7D15321C8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032BC-2984-4AC5-90A9-2A507A48D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9BB93-25D8-4A51-9DFA-1962F8C1A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39258-8E31-48EA-B0E0-EB5049980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58C86-8914-4C11-B66E-B589AAC61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05B2C-503C-4823-B2D2-2EE7C295B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E37E2C-3752-4975-A805-6C73C67461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2124E-18FB-41C9-96B6-3F5382DB8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59BB2-36C1-493B-92E7-364E06A463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623A2B-F595-4556-878B-92ACE19B6C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4495D-F484-4044-97A3-588F7FEDD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B9CA43-E566-43EE-87FD-43D76DB28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1D084-B790-481F-B106-6F9B249A9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EDB2B-322B-418E-8809-3A8E81A7DD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F06A81-C9C8-4A25-BB70-25EBB5D56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70478-B46D-48D8-8206-A90F787C2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D22D7-5362-4D16-8640-ED6D4391F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F529F-1529-4DD4-9AE1-769D16C8F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DC935-6642-4D75-A54F-017BCBC44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14F75-7020-41FF-8CBA-9219C8528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A63E47-EF40-47D4-BAFD-F55FC525DE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78F888-465A-497B-8251-289C364CF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ADED-2080-4541-B53A-25D5CBD3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9DA54-77DD-4738-A37E-B9CD9F7E3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980D-7B85-4029-8451-F39F7C7B8222}"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4624-C52A-4865-BDEB-3C9D266F6E4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4BC4-F9AF-44F2-934E-AA13FB833347}"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421B-54D0-441B-B466-E126D0B0B5F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7DD1-15D2-4C1B-B9BD-C43979DD8D0F}"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375A-E961-4417-90EE-047BCFAAC66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6EC3-A2E3-4515-85BD-4235A23B5593}"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3C09-0736-4B0E-B55B-D3ABBD218E6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6F20-000A-49F2-AA36-6AC12DE12807}"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8EA7-FF69-47B3-8930-F68121095D7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B5B3-0D20-442B-B738-F81146CB4357}" type="datetime">
              <a:rPr b="0" lang="en-US" sz="1000" spc="-1" strike="noStrike">
                <a:solidFill>
                  <a:srgbClr val="474233"/>
                </a:solidFill>
                <a:latin typeface="Tw Cen MT Condensed"/>
              </a:rPr>
              <a:t>07/30/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A4FD-154E-45F1-A2C0-623095FDD87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50F3F-010D-4239-BDAE-92A4BEC4C8A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EEAE4-E3B0-43B9-A8BC-E01C776EB12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B7874-805E-41E0-B7EB-9D4C9143A5A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C35D8-C993-4F72-AC44-BD08C72A703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CDD4D-8516-4D31-BB76-0C1BE92B0CA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C582-9B7C-4719-A703-A1E848E85E6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51D4F-9F90-4B00-9649-0E878F2604C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