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wmf" ContentType="image/x-wmf"/>
  <Override PartName="/ppt/media/image6.wmf" ContentType="image/x-wmf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CCA3F-9362-45A9-AEFB-6D68E65566B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Espace réservé du numéro de diapositive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29AFA-F812-4B34-A891-BED48743CA4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7E2D2-0342-45C3-B3D5-0942ACE76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409DF-B87A-4AB9-AB89-14A47012A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4B425-1CFF-43FD-A345-0C9959CA4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8EA55-B672-4D5D-952F-C727930D4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228B8-8B58-40F0-BC84-AAEEE1AC7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1A6AF-E353-473C-9A19-04FC5F128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9F914-595A-4589-84F2-7D6C195F7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B942C-8C0D-4594-8934-B68A0DE59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9EFFD-CE7A-4DEE-8718-6FC94D04B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5CA01-8E94-4705-8F60-A823F9057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F2E2E-1D90-42ED-B994-78AB88169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4A2AF-12EE-422C-9F3F-F924A98D8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06DE2-D723-4FDC-B432-1644F3FA0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DF852-089A-48D2-AED6-B8A5DEFCB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C126D-B91B-4319-9EE5-57DA601B9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89348-83CC-4A2A-ADF0-CC9CE2DC7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1F09C-9BC3-4D9A-98EA-9F4A47BC5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00D14-8B6A-4406-B543-1CDD56843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0654D-62E9-40F5-B06B-377A0EF8B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8A334-9A5F-40BA-A052-039F4F56E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C6645-1785-46D4-BC14-B115AB211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89B49-0092-4123-B5FD-A1BBB0BF1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3C3DE-7A8F-4601-9397-12BBA2C9F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74A46-3AAB-40BC-A447-D665746EF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53815-5F66-4F9B-A0FA-0A62AFD52EC4}" type="slidenum"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7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46" name="Rectangle 8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Rectangle 9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Rectangle 10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7AFD5-6040-4CC1-9C1E-410CFC66FAD1}" type="slidenum"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8229600" cy="277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999900"/>
                </a:solidFill>
                <a:latin typeface="Garamond"/>
              </a:rPr>
              <a:t> </a:t>
            </a:r>
            <a:r>
              <a:rPr b="0" lang="fr-FR" sz="4000" spc="-1" strike="noStrike">
                <a:solidFill>
                  <a:srgbClr val="999900"/>
                </a:solidFill>
                <a:latin typeface="Garamond"/>
              </a:rPr>
              <a:t>LA MUTUELLE DES FORCES ARMÉES NATIONALES (MUFAN)</a:t>
            </a:r>
            <a:r>
              <a:rPr b="0" lang="fr-FR" sz="5800" spc="-1" strike="noStrike">
                <a:solidFill>
                  <a:srgbClr val="999900"/>
                </a:solidFill>
                <a:latin typeface="Garamond"/>
              </a:rPr>
              <a:t>:</a:t>
            </a:r>
            <a:br>
              <a:rPr sz="5800"/>
            </a:br>
            <a:r>
              <a:rPr b="0" lang="fr-FR" sz="3600" spc="-1" strike="noStrike">
                <a:solidFill>
                  <a:srgbClr val="999900"/>
                </a:solidFill>
                <a:latin typeface="Garamond"/>
              </a:rPr>
              <a:t>prestations garanties et modalités de prise en charge</a:t>
            </a: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7743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Médecin colonel-major  Dominique ZOURE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Économiste de la santé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Directeur de la MUFA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999900"/>
                </a:solidFill>
                <a:latin typeface="Garamond"/>
              </a:rPr>
              <a:t>Courbe de demande d’adhésion en fonction de la prime (R2=0,51) (10) 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4037040" cy="45306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649760" y="1599840"/>
            <a:ext cx="40370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Rectangle 5"/>
          <p:cNvSpPr/>
          <p:nvPr/>
        </p:nvSpPr>
        <p:spPr>
          <a:xfrm>
            <a:off x="1009800" y="1309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22" name="Object 6"/>
          <p:cNvGraphicFramePr/>
          <p:nvPr/>
        </p:nvGraphicFramePr>
        <p:xfrm>
          <a:off x="1009800" y="1905120"/>
          <a:ext cx="7124400" cy="53337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23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09800" y="1905120"/>
                    <a:ext cx="7124400" cy="533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999900"/>
                </a:solidFill>
                <a:latin typeface="Garamond"/>
              </a:rPr>
              <a:t>Dépenses de santé en fonction de l’âge (11)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25" name="Picture 4" descr=""/>
          <p:cNvPicPr/>
          <p:nvPr/>
        </p:nvPicPr>
        <p:blipFill>
          <a:blip r:embed="rId1"/>
          <a:stretch/>
        </p:blipFill>
        <p:spPr>
          <a:xfrm>
            <a:off x="755640" y="1484280"/>
            <a:ext cx="741672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9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999900"/>
                </a:solidFill>
                <a:latin typeface="Garamond"/>
              </a:rPr>
              <a:t> </a:t>
            </a:r>
            <a:r>
              <a:rPr b="0" lang="fr-FR" sz="4000" spc="-1" strike="noStrike">
                <a:solidFill>
                  <a:srgbClr val="999900"/>
                </a:solidFill>
                <a:latin typeface="Garamond"/>
              </a:rPr>
              <a:t>La prime (cotisations)  (12) 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44360" y="236232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ût  moyen de l’hospitalisation 3236,55f/ adhér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EC 80%, </a:t>
            </a:r>
            <a:r>
              <a:rPr b="1" lang="fr-FR" sz="2800" spc="-1" strike="noStrike" u="sng">
                <a:solidFill>
                  <a:srgbClr val="000000"/>
                </a:solidFill>
                <a:uFillTx/>
                <a:latin typeface="Verdana"/>
              </a:rPr>
              <a:t>prime = 2588,8 francs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les 20% à la charge de l’adhérent (ticket modérateur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a prime équitab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rime off= 2 fois prime MD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rime sous-off = 1,5 fois prime du MD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999900"/>
                </a:solidFill>
                <a:latin typeface="Garamond"/>
              </a:rPr>
              <a:t>Primes par catégorie (13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Officiers          = 4843 (5000)franc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ous-officiers= 3632 (3600)franc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MDR              = 2421,5 (2400) franc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999900"/>
                </a:solidFill>
                <a:latin typeface="Garamond"/>
              </a:rPr>
              <a:t>III) Le panier de soins (14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Bénéficiai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43040" indent="-343080">
              <a:spcBef>
                <a:spcPts val="499"/>
              </a:spcBef>
              <a:buClr>
                <a:srgbClr val="6666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Le militaire seul sans sa famil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imites  géographiques de l’off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e plateau technique national public/ à défaut, le privé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restations offert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médicaments          consultations spécialisé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aboratoire               Imagerie médica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Hôtellerie                  Acte chirurgic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999900"/>
                </a:solidFill>
                <a:latin typeface="Garamond"/>
              </a:rPr>
              <a:t>IV) Modalités de prise en charge (15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Médicaments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(ayant l’AMM au Burkina Faso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rescription médica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Génériques et spécialité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Exclusion des vitamines non thérapeutiqu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Exclusion des fortifia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lafonnement de l’ordonnance à 3 mois de traitement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Autorisation spéciale si ordonnance &gt;100000 f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traitement du couple en cas d’IS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Produit d’hygiène, cosmétologie, aphrodisiaque </a:t>
            </a:r>
            <a:r>
              <a:rPr b="0" lang="fr-FR" sz="2000" spc="-1" strike="noStrike">
                <a:solidFill>
                  <a:srgbClr val="ff0000"/>
                </a:solidFill>
                <a:latin typeface="Verdana"/>
              </a:rPr>
              <a:t>non prise en charg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999900"/>
                </a:solidFill>
                <a:latin typeface="Garamond"/>
              </a:rPr>
              <a:t>                                             </a:t>
            </a:r>
            <a:r>
              <a:rPr b="0" lang="fr-FR" sz="4400" spc="-1" strike="noStrike">
                <a:solidFill>
                  <a:srgbClr val="999900"/>
                </a:solidFill>
                <a:latin typeface="Garamond"/>
              </a:rPr>
              <a:t>(16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aboratoi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Respect du palier de prescrip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Interdiction de PEC si un examen&gt;50 000 fr sauf dérogation (prélèvements envoyés en Franc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nsultations spécialisé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rincipe de référe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999900"/>
                </a:solidFill>
                <a:latin typeface="Garamond"/>
              </a:rPr>
              <a:t>                                     </a:t>
            </a:r>
            <a:r>
              <a:rPr b="0" lang="fr-FR" sz="4400" spc="-1" strike="noStrike">
                <a:solidFill>
                  <a:srgbClr val="999900"/>
                </a:solidFill>
                <a:latin typeface="Garamond"/>
              </a:rPr>
              <a:t>(17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Imageri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Respect du palier de prescrip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Respect du réseau de partenai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cte chirurgica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Respect du réseau de partenai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hirurgie esthétique non PEC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as de plafonnement dans la prise en charg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EC de prothèse bilatérale à la polyclinique NDP pour un montant de 1,6 millions en mai 2015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999900"/>
                </a:solidFill>
                <a:latin typeface="Garamond"/>
              </a:rPr>
              <a:t>                                        </a:t>
            </a:r>
            <a:r>
              <a:rPr b="0" lang="fr-FR" sz="4400" spc="-1" strike="noStrike">
                <a:solidFill>
                  <a:srgbClr val="999900"/>
                </a:solidFill>
                <a:latin typeface="Garamond"/>
              </a:rPr>
              <a:t>(18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Hôtellerie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(chambre d’hospitalisation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Application des tarifs en vigueur dans le secteur public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En cas de prise en charge en clinique privée l’hôtellerie est inclu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999900"/>
                </a:solidFill>
                <a:latin typeface="Garamond"/>
              </a:rPr>
              <a:t>                                          </a:t>
            </a:r>
            <a:r>
              <a:rPr b="0" lang="fr-FR" sz="4400" spc="-1" strike="noStrike">
                <a:solidFill>
                  <a:srgbClr val="999900"/>
                </a:solidFill>
                <a:latin typeface="Garamond"/>
              </a:rPr>
              <a:t>(19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EC limitée au plateau technique national 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(donc pas de greffes d’organe, de chirurgie cardiaque etc.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Verdana"/>
              </a:rPr>
              <a:t>Pas de PEC des prothèses dentaires, des verres correcteu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PEC de la MUFAN = panier intermédiaire RAMU-BF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999900"/>
                </a:solidFill>
                <a:latin typeface="Garamond"/>
              </a:rPr>
              <a:t>Plan (2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I) La  genèse de la MUFAN (contexte et justification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II) L’Etude de faisabilité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III) Le panier de soi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IV) Les conditions de prise en charg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V) Les résultats attei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VI) Les enseignements à tir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999900"/>
                </a:solidFill>
                <a:latin typeface="Garamond"/>
              </a:rPr>
              <a:t>                                        </a:t>
            </a:r>
            <a:r>
              <a:rPr b="0" lang="fr-FR" sz="4400" spc="-1" strike="noStrike">
                <a:solidFill>
                  <a:srgbClr val="999900"/>
                </a:solidFill>
                <a:latin typeface="Garamond"/>
              </a:rPr>
              <a:t>(20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lauses de contrat avec les partenaires (</a:t>
            </a:r>
            <a:r>
              <a:rPr b="0" lang="fr-FR" sz="2800" spc="-1" strike="noStrike" u="sng">
                <a:solidFill>
                  <a:srgbClr val="000000"/>
                </a:solidFill>
                <a:uFillTx/>
                <a:latin typeface="Verdana"/>
              </a:rPr>
              <a:t>service assurance qualité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Obligation de vérification du respect du palier de prescrip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Obligation de vérification de l’identité du bénéficiaire de la pres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Interdiction de délivrance des produits non pris en charge par la MUFA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Interdiction de délivrance si quantité&gt; 3 mois de traitement ou 100 000 fr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999900"/>
                </a:solidFill>
                <a:latin typeface="Garamond"/>
              </a:rPr>
              <a:t>                                              </a:t>
            </a:r>
            <a:r>
              <a:rPr b="0" lang="fr-FR" sz="4400" spc="-1" strike="noStrike">
                <a:solidFill>
                  <a:srgbClr val="999900"/>
                </a:solidFill>
                <a:latin typeface="Garamond"/>
              </a:rPr>
              <a:t>(21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lauses de contrat avec les bénéficiai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Respect du réseau de partenair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Respect des procédures médico-militair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Présentation des documents d’identification au prestatai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Non PEC des examens demandés dans le cadre médico-administratif (aptitude pour stage ou mission) ou dans le cadre médico-légal (test d’ADN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Plafonnement à 250 000fr en l’absence d’une pathologie chronique identifiée (suspension de la PEC)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Tiers payant avec un ticket modérateur de 20%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999900"/>
                </a:solidFill>
                <a:latin typeface="Garamond"/>
              </a:rPr>
              <a:t>V) Les résultats atteints    (22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lus de 95% des militaires sont membres de la MUFA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ogiciel de traitement de données adapté à la gestion du portefeuille de risqu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En 2014, plus de 10 000 adhérents PEC pour un montant de plus de 437 millions  la PEC la plus élevée étant de 3,2 mill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oût moyen/ adhérent PEC 2014: 25658 franc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2,5 milliards de francs distribués aux prestataires depuis 2008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cc00"/>
                </a:solidFill>
                <a:latin typeface="Verdana"/>
              </a:rPr>
              <a:t>Plus d’un milliard de francs de réserv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999900"/>
                </a:solidFill>
                <a:latin typeface="Garamond"/>
              </a:rPr>
              <a:t>Chiffres d’affaires depuis 2008 (23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357120" y="2643120"/>
          <a:ext cx="8229600" cy="2614680"/>
        </p:xfrm>
        <a:graphic>
          <a:graphicData uri="http://schemas.openxmlformats.org/drawingml/2006/table">
            <a:tbl>
              <a:tblPr/>
              <a:tblGrid>
                <a:gridCol w="1371600"/>
                <a:gridCol w="1371600"/>
                <a:gridCol w="1371600"/>
                <a:gridCol w="1371600"/>
                <a:gridCol w="1371600"/>
                <a:gridCol w="1371600"/>
              </a:tblGrid>
              <a:tr h="1136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artenair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h. Hôpital Ouag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h. Aoudi Bob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LAM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MA Schiph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HU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147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hiffres d’affaire auprès de la MUF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33 mill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1 mill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0 mill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4 mill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3 mill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c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999900"/>
                </a:solidFill>
                <a:latin typeface="Garamond"/>
              </a:rPr>
              <a:t>VI) Les enseignements à tirer    (24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Verdana"/>
              </a:rPr>
              <a:t>Les déterminants de l’escalade des coû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a catégorie socioéconomique 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fr-FR" sz="1800" spc="-1" strike="noStrike" u="sng">
                <a:solidFill>
                  <a:srgbClr val="000000"/>
                </a:solidFill>
                <a:uFillTx/>
                <a:latin typeface="Verdana"/>
              </a:rPr>
              <a:t>communication journée scientifique de Nouna 2009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es vitamines et fortifiants 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(8,53% des dépenses en  médicaments en 2010; principe de l’élasticité prix de la demande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e non respect des schémas thérapeutiques 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(cas du palu: 22,68% ordonnances et 21, 84% dépenses de santé; non respect des GDT et des algorithmes =&gt; molécule spécifique =1/3 du coût de l’ordonnance; </a:t>
            </a:r>
            <a:r>
              <a:rPr b="0" lang="fr-FR" sz="1600" spc="-1" strike="noStrike" u="sng">
                <a:solidFill>
                  <a:srgbClr val="000000"/>
                </a:solidFill>
                <a:uFillTx/>
                <a:latin typeface="Verdana"/>
              </a:rPr>
              <a:t>JSSB 2010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e recours excessif aux médicaments de spécialité ayant des équivalents génériques 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(82 millions/ 364 millions soit 22% de surcoût de dépenses en médicaments; </a:t>
            </a:r>
            <a:r>
              <a:rPr b="0" lang="fr-FR" sz="1600" spc="-1" strike="noStrike" u="sng">
                <a:solidFill>
                  <a:srgbClr val="000000"/>
                </a:solidFill>
                <a:uFillTx/>
                <a:latin typeface="Verdana"/>
              </a:rPr>
              <a:t>JSSB 2014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999900"/>
                </a:solidFill>
                <a:latin typeface="Garamond"/>
              </a:rPr>
              <a:t>conclusio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rise en charge des gros risques et des petits risqu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es petits risques: facteur inflationniste (élasticité prix de la demande est fort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Articulation mutuelle </a:t>
            </a:r>
            <a:r>
              <a:rPr b="0" i="1" lang="fr-FR" sz="2400" spc="-1" strike="noStrike">
                <a:solidFill>
                  <a:srgbClr val="000000"/>
                </a:solidFill>
                <a:latin typeface="Verdana"/>
              </a:rPr>
              <a:t>(petit risque et contrôle social) </a:t>
            </a:r>
            <a:r>
              <a:rPr b="1" i="1" lang="fr-FR" sz="2400" spc="-1" strike="noStrike">
                <a:solidFill>
                  <a:srgbClr val="000000"/>
                </a:solidFill>
                <a:latin typeface="Verdana"/>
              </a:rPr>
              <a:t>/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RAMU BF </a:t>
            </a:r>
            <a:r>
              <a:rPr b="0" i="1" lang="fr-FR" sz="2400" spc="-1" strike="noStrike">
                <a:solidFill>
                  <a:srgbClr val="000000"/>
                </a:solidFill>
                <a:latin typeface="Verdana"/>
              </a:rPr>
              <a:t>(gros risque dont la demande est inélastiqu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Efficacité des mécanismes de régulation (Régulateur des soins: GDT, algorithm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Verdana"/>
              </a:rPr>
              <a:t>Le panier de soins en relation avec la capacité de gestion du risque moral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999900"/>
                </a:solidFill>
                <a:latin typeface="Garamond"/>
              </a:rPr>
              <a:t>I) Contexte et justifications (3) 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1) besoins croissants en matière de santé (démographique, épidémiologique , technologiqu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2) fin de l’État providen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3) l’accessibilité aux soins comme objectif du PNDS au Burkina Fas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4) forte attente du militaire pour une meilleure protection socia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5) contexte réglementaire favorable à la création de structure de couvertures sociales (art 19 du statut général des personnels des FAN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6) plus grande opérationnalité de l’Armé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7) contribution à l’équilibre financier  (les hommes à l’abri des usurier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8)  l’hôpital militaire au service réel du militai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999900"/>
                </a:solidFill>
                <a:latin typeface="Garamond"/>
              </a:rPr>
              <a:t>II) Étude de faisabilité: objectifs (4)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(étude faite en 2002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ourcentage de militaires confrontés à une inaccessibilité financière aux soi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Opinion sur une mutuelle de santé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999900"/>
                </a:solidFill>
                <a:latin typeface="Times New Roman"/>
              </a:rPr>
              <a:t>Étude de faisabilité: les points clés (5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55,9% des enquêtés ont été confrontés à une inaccessibilité financière aux soins (intervalle de trois mois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999900"/>
                </a:solidFill>
                <a:latin typeface="Garamond"/>
              </a:rPr>
              <a:t>Voies de recours habituelles (6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08" name="Object 3" descr=""/>
          <p:cNvPicPr/>
          <p:nvPr/>
        </p:nvPicPr>
        <p:blipFill>
          <a:blip r:embed="rId1"/>
          <a:stretch/>
        </p:blipFill>
        <p:spPr>
          <a:xfrm>
            <a:off x="849240" y="2058840"/>
            <a:ext cx="7672320" cy="414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999900"/>
                </a:solidFill>
                <a:latin typeface="Garamond"/>
              </a:rPr>
              <a:t>Voies de recours habituelles (7)  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10" name="Object 3" descr=""/>
          <p:cNvPicPr/>
          <p:nvPr/>
        </p:nvPicPr>
        <p:blipFill>
          <a:blip r:embed="rId1"/>
          <a:stretch/>
        </p:blipFill>
        <p:spPr>
          <a:xfrm>
            <a:off x="914400" y="2057400"/>
            <a:ext cx="7696080" cy="434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999900"/>
                </a:solidFill>
                <a:latin typeface="Garamond"/>
              </a:rPr>
              <a:t>Intentions formelles d’adhésion 61.98%  (8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éterminants de l’adhés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Verdana"/>
              </a:rPr>
              <a:t>la Caisse Épargne Santé     </a:t>
            </a:r>
            <a:r>
              <a:rPr b="0" i="1" lang="fr-FR" sz="2000" spc="-1" strike="noStrike" u="sng">
                <a:solidFill>
                  <a:srgbClr val="ff0000"/>
                </a:solidFill>
                <a:uFillTx/>
                <a:latin typeface="Verdana"/>
              </a:rPr>
              <a:t>(influence négativ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cc00"/>
                </a:solidFill>
                <a:latin typeface="Verdana"/>
              </a:rPr>
              <a:t>La solidarité                       </a:t>
            </a:r>
            <a:r>
              <a:rPr b="0" i="1" lang="fr-FR" sz="2000" spc="-1" strike="noStrike" u="sng">
                <a:solidFill>
                  <a:srgbClr val="00cc00"/>
                </a:solidFill>
                <a:uFillTx/>
                <a:latin typeface="Verdana"/>
              </a:rPr>
              <a:t>(influence positiv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cc00"/>
                </a:solidFill>
                <a:latin typeface="Verdana"/>
              </a:rPr>
              <a:t>L’aversion pour le risque     </a:t>
            </a:r>
            <a:r>
              <a:rPr b="0" i="1" lang="fr-FR" sz="2000" spc="-1" strike="noStrike" u="sng">
                <a:solidFill>
                  <a:srgbClr val="00cc00"/>
                </a:solidFill>
                <a:uFillTx/>
                <a:latin typeface="Verdana"/>
              </a:rPr>
              <a:t>(influence positive</a:t>
            </a:r>
            <a:r>
              <a:rPr b="0" i="1" lang="fr-FR" sz="2000" spc="-1" strike="noStrike" u="sng">
                <a:solidFill>
                  <a:srgbClr val="000000"/>
                </a:solidFill>
                <a:uFillTx/>
                <a:latin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a prime (solidarité: prime&lt;ou= 1000f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999900"/>
                </a:solidFill>
                <a:latin typeface="Garamond"/>
              </a:rPr>
              <a:t>Disposition à payer: Propositions de primes faites par les enquêtés (9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4" name="Rectangle 3"/>
          <p:cNvSpPr/>
          <p:nvPr/>
        </p:nvSpPr>
        <p:spPr>
          <a:xfrm>
            <a:off x="2324160" y="1633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15" name="Object 4"/>
          <p:cNvGraphicFramePr/>
          <p:nvPr/>
        </p:nvGraphicFramePr>
        <p:xfrm>
          <a:off x="990720" y="2286000"/>
          <a:ext cx="784836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286000"/>
                    <a:ext cx="784836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Rectangle 5"/>
          <p:cNvSpPr/>
          <p:nvPr/>
        </p:nvSpPr>
        <p:spPr>
          <a:xfrm>
            <a:off x="2324160" y="1633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9T08:19:19Z</dcterms:created>
  <dc:creator>DEP</dc:creator>
  <dc:description/>
  <dc:language>en-US</dc:language>
  <cp:lastModifiedBy>Baly Ouattara</cp:lastModifiedBy>
  <dcterms:modified xsi:type="dcterms:W3CDTF">2015-06-09T13:57:14Z</dcterms:modified>
  <cp:revision>127</cp:revision>
  <dc:subject/>
  <dc:title>MUTUELLE DES FAN</dc:title>
</cp:coreProperties>
</file>