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9C72-12DE-4DE2-ABD2-9385441C7D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6723-1255-4C0E-9339-C0072A0D672B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E59B-C734-447F-B23A-16DDCE0D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1421-EF75-4A48-B5B1-93EF9F16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2076-A563-4E8B-BCFC-B8F2D0A3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9EE9-6214-404E-84E1-9858430E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845A-7E18-45B8-B6DC-964F890A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E88C-BCE0-4374-8C19-BB5DE4E3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C3C5-D910-4F83-9331-7AE37CEB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3BC8-F020-48D6-AD17-38271FAF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3438-B993-4439-B32B-273DB51E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65BD-F207-4AFB-802C-E28ADF2A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247E-2EBB-43D4-A40A-059D82C6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8AE-0F0F-4D60-B2DC-7CCF150D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B081-A23F-4286-9B37-FD0B03D9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E8E2-3D14-419A-9D91-AF174ED1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6121-C343-48A7-8B0C-065DE65C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870E-16B6-4FB9-B02D-129625B6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775F-77C8-4699-B6F9-A72CFBF9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96D59-750D-4143-94E5-70B7B09B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80291-00F1-4AFC-B73E-282DE170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64C15-6AD4-43EB-A61D-8868350D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97CB9-A1DC-4A87-81D8-CC09FDB1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7D3D5-523A-495B-8A71-F92667DC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6B9-A43F-478C-A9EF-04C07F21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F3C4E0-3761-49FA-8B2F-13F70C0B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D49B8-054D-49D5-BD64-F25762BB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CE903A-6824-497A-AF75-12C52D34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616C6F-D75C-4ABA-AB40-7CD5AE05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F9DA8-5C0F-44C2-A924-A35D0783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628794-9B8B-417D-B5E6-099710FE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80E8A1-55A3-4C60-832D-56F92410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6B169D-7680-485C-B6E5-48CFFEF6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97B24D-1008-4234-B9C6-0805F564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0B3CB9-C074-4AB6-9DBC-5CD2A160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1504-DC38-4FB1-B14C-3BD07EA0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C35561-E889-454A-9233-E3A5C546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3CDE9C-C650-48AF-8979-81AE6349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35D42B-0318-4607-9A7D-88955461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6B739D-7932-470A-95DD-9336E76C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C0E9B7-F180-4158-B52B-7F0BA861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5A7A61-F0C7-4FCA-A3CF-58E7305E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524F02-E85A-4F6C-90B1-D7759BE2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FC365B-3A17-4B82-9CFF-ABC560D8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DC5EAF-41B2-4949-93D1-B408437C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FBA92-F905-4F4C-B3F4-34D80532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5C1-6DC5-4855-A818-2BA3B7B2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143D84-7161-494C-8F9F-22A39129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0FEAEF-1330-4DC7-8DD8-147E10EE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54C777-319E-4EAD-BBBE-EA2B8625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9204FD-43B8-47FE-A7C1-6424BFCC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BF2F9D-D581-4693-AD8E-65E382D4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B94CF6-C7D6-42E4-87C9-58451B10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438CA9-ABBD-4424-BC16-0109DF0C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36D2D-7B42-4218-926F-A546CA35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012B6-1CB2-4323-9C8B-C7D2346F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E28AC9-F90A-4E9E-8389-B63E7A2F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8BCA-1809-426A-AD77-0D36FA80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1AB68C-3ADE-4A32-B6B0-FF2F8746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D0204-0125-4DC5-8BE6-8E325804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C0FC8-96F7-470C-9808-5D8666BB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9EB60-05F3-44B2-8720-67D1BD8A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0E3DA-558C-420C-BC01-311AF115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D81EB-61EA-4592-BF29-640581BF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2B531-5651-4106-BEE3-67D28A29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59F94-E9E0-4D22-B5C9-C90B6248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86157-0F59-4BC0-B6AD-4B21D460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1099E-D157-4F6A-B398-E8C6DD76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9BCB-C1A5-42C7-B371-047A1063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16B54-AE76-4E10-A6D5-6906B222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7D923-49F1-4B23-8EB7-51FCFB1E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28AFA-2497-4EFD-98B1-5E86A122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31EF5D-99C8-439A-90A2-ABB4BBD0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E9B0CC-527A-433A-ADC3-49CA77FA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4042AE-E706-48F2-8C73-FFA4B23B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C8DDAA-CDE2-47FF-A832-2DA7A9E8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1098B1-6975-46AE-ADC8-A25C140A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7FC321-D4FC-4FE2-936F-EF6A6C77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D737DB-F1C5-411A-B87B-44A11DBA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A490-1405-463E-BA12-165B0E22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AF369D-DF8E-44C4-9CD1-768B9357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A534CB-1222-4DFE-8AC1-E9585D12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B743D2-644F-4EED-BF57-2D0632EB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68A8DC-16C1-4F6F-AC9A-0F1E1F2F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0D81D8-E7A9-4617-9952-26A22DF5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F8ACE-9791-4A6D-B8FC-43D79F47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3E19E-7530-4453-8B87-1DF5CFCD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EB8B4-5CA4-4CB1-9D13-E7C9C41F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6C911-1840-4DCB-811C-650FB256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5B49B-26ED-4652-B28C-6314C6E7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E23D-2CDC-4B75-A5A2-413DB0EB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F0DA6-0FB4-47C7-A1DE-600FBB0E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D8A40-7E7C-4FF2-8AC8-FD431D0B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523F6-00BA-4736-87AD-851F6A34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8AD83-ABB9-465C-A209-B6006B23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94DEE-8FF9-402C-9FD9-40112A3D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64E80-DAE1-47C6-9EBA-406E112C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0C9EF-1029-4D77-A02F-1F753A1B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B980-D2F2-4DB1-8D3B-33000AE65745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899C-A615-4239-917D-2F823D476B73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2AC7-32D2-416E-8E15-FB73BFF6E255}" type="datetime">
              <a:rPr b="0" lang="fr-FR" sz="21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74F3-4021-4DC3-B4EE-247DBE70300B}" type="slidenum">
              <a:rPr b="1" lang="fr-FR" sz="16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74BB-630E-4C7B-907C-ECBE9710F7F2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7878-8417-4D69-B1D9-60CD521BFD53}" type="slidenum">
              <a:rPr b="1" lang="fr-FR" sz="2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A1C9-6EE5-4C83-B182-4EA832C2D181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A2DA-6665-484D-9746-26AE8D617BEC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8CF8-A6AC-43A2-8274-29CF8CCFD823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5EE1-76C6-4765-8B5B-6DBE12898BDF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9F22-C2D4-4E97-9C5D-23CF360ED935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2611-4772-47BF-B3AC-8A07C553D128}" type="slidenum">
              <a:rPr b="1" lang="fr-FR" sz="16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821F-F3D3-4677-A7BB-AEFE4E76B5B6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52B8-52CE-45CF-983D-37DF58E15E4A}" type="slidenum">
              <a:rPr b="1" lang="fr-FR" sz="2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443C-D58F-4A41-B888-1ED36CF2D2B8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496D-7BFC-4ED0-BB28-7C6386EB86D7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Recto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Fiche%20de%20prise%20en%20charge%20Hospitali&#232;re.doc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000920" cy="900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58bb8"/>
                </a:solidFill>
                <a:latin typeface="comic"/>
              </a:rPr>
              <a:t>PRÉSENTATION MSU/LB</a:t>
            </a:r>
            <a:r>
              <a:rPr b="0" lang="fr-FR" sz="4100" spc="-1" strike="noStrike">
                <a:solidFill>
                  <a:srgbClr val="558bb8"/>
                </a:solidFill>
                <a:latin typeface="Tw Cen MT"/>
              </a:rPr>
              <a:t> </a:t>
            </a:r>
            <a:endParaRPr b="0" lang="en-US" sz="41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899640" y="1915920"/>
            <a:ext cx="7272360" cy="865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62626"/>
                </a:solidFill>
                <a:latin typeface="Tw Cen MT"/>
              </a:rPr>
              <a:t>Atelier sur l’Assurance Maladie Universelle</a:t>
            </a:r>
            <a:br>
              <a:rPr sz="800"/>
            </a:b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62626"/>
                </a:solidFill>
                <a:latin typeface="Tw Cen MT"/>
              </a:rPr>
              <a:t>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76320" y="606888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75F0-B32A-40D1-835B-ECCA8F4F7BF6}" type="datetime">
              <a:rPr b="0" lang="fr-FR" sz="2100" spc="-1" strike="noStrike">
                <a:solidFill>
                  <a:srgbClr val="ffffff"/>
                </a:solidFill>
                <a:latin typeface="Arial"/>
                <a:ea typeface="Arial"/>
              </a:rPr>
              <a:t>31/07/26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7BDD-3406-49D2-ADD8-902E28DEFF61}" type="slidenum">
              <a:rPr b="1" lang="fr-FR" sz="1600" spc="-1" strike="noStrike">
                <a:solidFill>
                  <a:srgbClr val="ebddc3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377" name="ZoneTexte 1"/>
          <p:cNvSpPr/>
          <p:nvPr/>
        </p:nvSpPr>
        <p:spPr>
          <a:xfrm>
            <a:off x="539640" y="3933720"/>
            <a:ext cx="7993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262626"/>
                </a:solidFill>
                <a:latin typeface="Tw Cen MT"/>
              </a:rPr>
              <a:t>Expérience de la Mutuelle de Santé Urbaine Laafi Baoré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</a:t>
            </a: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Par Marcel Z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                                                                       </a:t>
            </a:r>
            <a:r>
              <a:rPr b="1" i="1" lang="fr-FR" sz="2000" spc="-1" strike="noStrike" u="sng">
                <a:solidFill>
                  <a:srgbClr val="262626"/>
                </a:solidFill>
                <a:uFillTx/>
                <a:latin typeface="Tw Cen MT"/>
              </a:rPr>
              <a:t>Président du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8" descr=""/>
          <p:cNvPicPr/>
          <p:nvPr/>
        </p:nvPicPr>
        <p:blipFill>
          <a:blip r:embed="rId1"/>
          <a:stretch/>
        </p:blipFill>
        <p:spPr>
          <a:xfrm>
            <a:off x="742968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696080" cy="736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 suite 3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9750-C9E4-4F4D-BFD3-02BFE2B273E8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9CBD-F740-4D85-9146-5D03588A2AAA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56760" y="1571400"/>
            <a:ext cx="8425080" cy="4786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Tw Cen MT"/>
              </a:rPr>
              <a:t>Dans les CMA, CMU et CHU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consultations généralistes et spécialisé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analyses de lab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dentaires sans prothès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ophtalmologiques sans lunet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opérations chirurgica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chirurg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méd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’accouchement dystociqu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frais d’hôtellerie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8" descr=""/>
          <p:cNvPicPr/>
          <p:nvPr/>
        </p:nvPicPr>
        <p:blipFill>
          <a:blip r:embed="rId1"/>
          <a:stretch/>
        </p:blipFill>
        <p:spPr>
          <a:xfrm>
            <a:off x="750096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153280" cy="714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V. Statistiques d’évolution de la MSU/LB 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214200" y="1214280"/>
          <a:ext cx="8715600" cy="564372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600"/>
                <a:gridCol w="1452600"/>
                <a:gridCol w="1452600"/>
                <a:gridCol w="1452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dhé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énéfici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tisation recouvr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016 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 957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903 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 123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752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ise en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990 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785 5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421 7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 847 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027 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br de 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fréqu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3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6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recouv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5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9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6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0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sinistra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93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sp>
        <p:nvSpPr>
          <p:cNvPr id="426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FEA5-F182-439F-AE65-E60D8729120E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274D-26B5-4FDF-A1D6-BEB75D566846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31E6-85B5-40C0-910B-833915B3C65E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Surconsommation et surprescrip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non respect de la convention par les centres de santé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nsmission tardive des factures dont accumulation de factures parfois d’un an et même plus pour certai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manque de collaboration et le mauvais traitement de certains agents de santé vis-à-vis des mutualis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forte demande par les bénéficiaires des produits de spécialités (ceci entraine le désintérêt de la population et la désinscription des membres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258C-9B5F-4E5B-A0D6-3952F1117081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A019-8B50-4D25-A754-3290203DCC39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Mettre des médecins conseil à la disposition des mutuel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Appuyer les mutuelles dans la sensibilisation des agents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seigner des modules sur l’assurance maladie et les mutuelles de santé des écoles de formation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vailler à la disponibilité des MEG et sensibiliser la population à leur consommation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Renforcer les capacités des responsables et gestionnaires des mutuelles de santé sur le PCMS de l’UEMOA, la loi sur la mutualité sociale du Burkina et l’AMU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D97B-FD9B-4BA0-9DE9-117BABDD9A65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C406-01EF-4BDA-B7B3-9A05781B1F39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900" spc="-1" strike="noStrike">
                <a:solidFill>
                  <a:srgbClr val="009900"/>
                </a:solidFill>
                <a:latin typeface="comic"/>
              </a:rPr>
              <a:t>Merci de votre aimable  attention!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Laafi Baoré, S’unir aujourd'hui pour garantir demain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Contacts: 25 36 15 25/71 80 07 97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Tw Cen MT"/>
              </a:rPr>
              <a:t>Mail: msu.laafibaore@yahoo.fr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2" name="Picture 8" descr=""/>
          <p:cNvPicPr/>
          <p:nvPr/>
        </p:nvPicPr>
        <p:blipFill>
          <a:blip r:embed="rId1"/>
          <a:stretch/>
        </p:blipFill>
        <p:spPr>
          <a:xfrm>
            <a:off x="75722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PLAN DE PRESENTATION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3269-6FC3-4ABF-A382-513A124CCEB7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EADA-2510-4EBF-8088-F9584F56C2FF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95280" y="2133360"/>
            <a:ext cx="8424720" cy="26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Naissance de la MSU-LB 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Conditions d’adhésion et de prise en char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Prestations prises offer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Statistiques sur l’évolution de la MSU-LB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rencontrées et 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2" name="Picture 8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7696080" cy="723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 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01A7-B2AA-4A17-BFF7-78AEB70BA3C1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3FA0-078D-493E-BD9D-918ECF6D8537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57120" y="128556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Née de la volonté d’un certain nombre d’organisation de la société civile et d’entreprises (08)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Réalisée son étude de faisabilité sous la houlette du RAMS.BF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Tenue de son AGC le 30 juin 2006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Le lancement officiel 28 février 2007 au CMA du 30 sous la présidence du MTSS et le parrainage du Maire de la Commune de Ouagadougou de l’époqu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ébut des prestations en 1</a:t>
            </a:r>
            <a:r>
              <a:rPr b="0" lang="fr-FR" sz="2900" spc="-1" strike="noStrike" baseline="30000">
                <a:solidFill>
                  <a:srgbClr val="000000"/>
                </a:solidFill>
                <a:latin typeface="Tw Cen MT"/>
              </a:rPr>
              <a:t>er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 avril 200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7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85880" y="428760"/>
            <a:ext cx="7696080" cy="72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(suite)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DBF9-6207-4FFB-A49A-6804CCA12673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AAFC-0ECA-4453-A3A4-A391069406AC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57120" y="1714680"/>
            <a:ext cx="8175600" cy="4665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4000"/>
          </a:bodyPr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 public cible de départ était constitué des membres des organisations mères de la mutuel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haque organisation a constitué une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Au sein de chaque section il y a un bureau de la MSU-LB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e bureau est chargé de l’animation, l’enregistrement de nouveaux adhérents, de collecte des cotisations et de la gestion de la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Une section (inter pro) s’est créée qui regroupe des personnes n’appartenant à aucune de ces organisation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Toutes les adhésions et cotisations sont reversées à l’unité gestio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2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7696440" cy="107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9C4F-ABDE-4A69-9C79-D7D3CFD1A6A4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D817-9FD4-4C42-BCAB-856BA1E0AD9F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8000" y="1988640"/>
            <a:ext cx="8351640" cy="431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’adhésion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iement de frais d’adhésion de 2 500 frs pour une famille de 5 personn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adhérent + conjoint + enfants à charge de moins de 18 ans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ment de cotisation de 12 000 frs par personne et par an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r au moins 6 mois de cotisation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pporter une copie simple d’extrait de naissance ou CNIB ou passeport et une photo de chaque inscrit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3575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7429680" y="21420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404280"/>
            <a:ext cx="8029440" cy="8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1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299C-61AE-440E-8E84-BD534F2488EC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05FA-260C-40F9-8E04-2E098CE0AA85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95280" y="1628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e prise en charg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Observer une période de stage de 03 mo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Se rendre dans une des 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26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 formations sanitaires conventionné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10 CSPS, 6 CM, 3 CMU, 5 CMA, l’OST et le CHU-YO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cepter la prise en charge de 7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résenter sa </a:t>
            </a:r>
            <a:r>
              <a:rPr b="0" lang="fr-FR" sz="2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carte 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de memb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yer un ticket modérateur de 3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774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</a:t>
            </a:r>
            <a:br>
              <a:rPr sz="2800"/>
            </a:b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suite2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BC37-697A-4FB6-8D50-D7EE251DAB73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F897-998C-487C-9B17-C27ABF3C0235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56760" y="1785600"/>
            <a:ext cx="8286840" cy="4403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lvl="1"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Circuit de prise en charge 1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résenter votre carte de membre au guichet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prise en charge au CHU-YO est faite sur présentation d’une </a:t>
            </a:r>
            <a:r>
              <a:rPr b="0" lang="fr-FR" sz="25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fiche de PEC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délivrée par l’UG,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 vos frais médicaux: consultation, examen, hospitalisation…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 cas d’ordonnance présentez votre carte au dépôt pharmaceutique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s frais d’ordonnances (MEG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3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3DFA-FDDC-4A25-9FDD-717A32674821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5CAD-109A-45EC-8714-5485629DCF19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28760" y="1904760"/>
            <a:ext cx="8501040" cy="447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7000"/>
          </a:bodyPr>
          <a:p>
            <a:pPr lvl="1" marL="334080" indent="-33408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w Cen MT"/>
              </a:rPr>
              <a:t>Circuit de prise en charge 2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En cas de rupture de médicaments au dépôt,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hetez vos médicaments dans une pharmacie de la place à la totalité du montan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dressez une demande de remboursement au PCA de la MSU/LB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Pièces jointes (reçu d’achat, ordonnances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Même procédure si vous n’a pas été traité en que mutualiste (en cas d’oubli de votre carte par exemple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6200" indent="-286200"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696080" cy="934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F5C9-C62E-473F-AE63-A002EDE274CD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D948-DB7E-4551-8DAA-9C862CF4DB2E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9528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Dans les CSPS, CM (Les soins ambulatoires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soins ambulatoires : consultation curative, soins infirmiers, petite chirurgie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Médicaments essentiels génériques (M.E.G.) de la liste nationale des médicaments essentiels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accouchement normal 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a mise en observation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évacuation vers le centre de référenc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1:03:26Z</dcterms:created>
  <dc:creator>NOMBRE B.</dc:creator>
  <dc:description/>
  <dc:language>en-US</dc:language>
  <cp:lastModifiedBy>Poste 12</cp:lastModifiedBy>
  <dcterms:modified xsi:type="dcterms:W3CDTF">2015-06-09T08:42:55Z</dcterms:modified>
  <cp:revision>117</cp:revision>
  <dc:subject/>
  <dc:title>Présentation MSU/LB</dc:title>
</cp:coreProperties>
</file>