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ilabre fatimata" initials="pf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15-06-01T09:41:51.001000000" idx="1">
    <p:pos x="10" y="10"/>
    <p:text/>
  </p:cm>
  <p:cm authorId="0" dt="2015-06-01T09:48:16.910000000" idx="2">
    <p:pos x="10" y="106"/>
    <p:text>Je crois que nous avons mal placé ce dia. peut on ajouter méthodologie dans le titre du dia sinon il vient se placer au mielieu des dia méthodologie 1/2, 2/2  sans être titré métho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1BFF-07A7-414D-809E-E7290B217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’expérience du DS de Sebba qui est appuyée par Help et avec le soutien de l’Université de Montréal pour les aspects scientifiq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7AD4-D239-44A5-B5EE-2C0FE4AD81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demande DS Dori de passer au F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Habitudes de prescriptions non changées (nombre moyen de molécules par ordonnance est de 2,5): parce que les contrôles ont été réalisés (médical et financi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5C05-652F-42DB-A1C3-37081B525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aut : effet immédiat (à l’introduction de l’intervention « FFT ») ET Tendance : effet sur la période (durant la phase étudié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COMMENTER (L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94B7-533A-46EC-B624-3618F359C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COMMENTER (L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F2B5-E953-4B8A-9003-BFEC017FE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njeux sur le montant forfaitai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ode de calcul :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acteur qui limite le risque financier des prestata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1898-D6DA-4EFE-A04D-D52F01B67D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E15E-6D80-4508-A178-CB548A92BB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1AAA-E6E1-4B42-B757-521446F55D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emption = équité dans l’accès, filet social (pas de dépenses des ménages en matière de santé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73A5-D27A-4699-9560-B9E258209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12FF-D87A-42D8-AEDB-A284A8E37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693E-7C65-4285-9440-7DB537267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3BAF-76C2-4AC9-A04A-C5AD4662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23C3-89C7-4E6F-BE9C-FC31C7C4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E344-71EE-46BB-BA87-BAC1C4F6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1475-D4A3-43AE-A057-4F75673E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42C4-47BB-4E69-9C8C-B0B84A54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1CA8-8C76-4AF6-AD11-5437F0B1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0A5F-D517-476C-B881-666002F6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FA4D-C62E-4ED3-B19A-809E3DF7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5AA0-59FA-48B8-B1B8-B35D7AED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93FB-6722-4284-99C0-55C64AAD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0DA6-D0AE-4209-BDE8-7BE692FA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FAF0-3BC8-4C4A-A320-92598E64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FCB1-2F64-49AB-A5B4-107D8FFCE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raph%20Enfants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0560"/>
            <a:ext cx="7772400" cy="17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L’ exemption du paiement des soins au forfait chez les enfants &lt;5ans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DS Seb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98989"/>
                </a:solidFill>
                <a:latin typeface="Calibri"/>
              </a:rPr>
              <a:t>Atelier technique AMU « Panier de soins, coût et financement »</a:t>
            </a:r>
            <a:br>
              <a:rPr sz="2800"/>
            </a:br>
            <a:r>
              <a:rPr b="1" lang="fr-FR" sz="2400" spc="-1" strike="noStrike">
                <a:solidFill>
                  <a:srgbClr val="898989"/>
                </a:solidFill>
                <a:latin typeface="Calibri"/>
              </a:rPr>
              <a:t>Ouagadougou, les 9 et 10 juin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2" descr="logoHelpFr"/>
          <p:cNvPicPr/>
          <p:nvPr/>
        </p:nvPicPr>
        <p:blipFill>
          <a:blip r:embed="rId1"/>
          <a:srcRect l="2793" t="1343" r="3911" b="2686"/>
          <a:stretch/>
        </p:blipFill>
        <p:spPr>
          <a:xfrm>
            <a:off x="7620120" y="5410080"/>
            <a:ext cx="115416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1" descr="logo_fr_transp_black"/>
          <p:cNvPicPr/>
          <p:nvPr/>
        </p:nvPicPr>
        <p:blipFill>
          <a:blip r:embed="rId2"/>
          <a:stretch/>
        </p:blipFill>
        <p:spPr>
          <a:xfrm>
            <a:off x="7620120" y="380880"/>
            <a:ext cx="111744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drapeau:Burkina Faso"/>
          <p:cNvPicPr/>
          <p:nvPr/>
        </p:nvPicPr>
        <p:blipFill>
          <a:blip r:embed="rId3"/>
          <a:stretch/>
        </p:blipFill>
        <p:spPr>
          <a:xfrm>
            <a:off x="380880" y="380880"/>
            <a:ext cx="1190880" cy="784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paho\Desktop\Archives_Interim_20150523\RA FFT\Publications\Note Analyse démarche RA\MenP-G\Nvx_Logos_Mai2015\Logo_EQUITE_jpg-RVB_201505.jpg"/>
          <p:cNvPicPr/>
          <p:nvPr/>
        </p:nvPicPr>
        <p:blipFill>
          <a:blip r:embed="rId4"/>
          <a:stretch/>
        </p:blipFill>
        <p:spPr>
          <a:xfrm>
            <a:off x="3352680" y="5410080"/>
            <a:ext cx="2286000" cy="108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" descr="armoirie_BF"/>
          <p:cNvPicPr/>
          <p:nvPr/>
        </p:nvPicPr>
        <p:blipFill>
          <a:blip r:embed="rId5"/>
          <a:stretch/>
        </p:blipFill>
        <p:spPr>
          <a:xfrm>
            <a:off x="1136520" y="5297400"/>
            <a:ext cx="836640" cy="9511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990720" y="6313320"/>
            <a:ext cx="11379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MINISTERE DE LA SAN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ésultats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aisabilité du paiement au forfait est démontr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rtinence du FFT pour l’ensemble des PP (adhésion des F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abitudes de prescriptions non chang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minution importante de la charge administ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minution des coûts de gestion de la subvention (suppor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tentiel de maitrise des coûts du paiement au F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effets sur les CMM du Gr1</a:t>
            </a:r>
            <a:br>
              <a:rPr sz="44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6 CSPS – DS Sebb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20600" y="1314360"/>
            <a:ext cx="8858160" cy="538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1700280" y="1314360"/>
            <a:ext cx="7304040" cy="957240"/>
          </a:xfrm>
          <a:prstGeom prst="rect">
            <a:avLst/>
          </a:prstGeom>
          <a:ln w="0">
            <a:noFill/>
          </a:ln>
        </p:spPr>
      </p:pic>
      <p:cxnSp>
        <p:nvCxnSpPr>
          <p:cNvPr id="93" name="Straight Arrow Connector 8"/>
          <p:cNvCxnSpPr/>
          <p:nvPr/>
        </p:nvCxnSpPr>
        <p:spPr>
          <a:xfrm>
            <a:off x="4723920" y="3200040"/>
            <a:ext cx="129636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94" name="TextBox 9"/>
          <p:cNvSpPr/>
          <p:nvPr/>
        </p:nvSpPr>
        <p:spPr>
          <a:xfrm>
            <a:off x="4724280" y="2830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FFT S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Straight Arrow Connector 10"/>
          <p:cNvCxnSpPr/>
          <p:nvPr/>
        </p:nvCxnSpPr>
        <p:spPr>
          <a:xfrm>
            <a:off x="6019920" y="3200040"/>
            <a:ext cx="259128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arrow" w="med"/>
            <a:tailEnd len="med" type="arrow" w="med"/>
          </a:ln>
        </p:spPr>
      </p:cxnSp>
      <p:sp>
        <p:nvSpPr>
          <p:cNvPr id="96" name="TextBox 11"/>
          <p:cNvSpPr/>
          <p:nvPr/>
        </p:nvSpPr>
        <p:spPr>
          <a:xfrm>
            <a:off x="6095880" y="2895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000"/>
                </a:solidFill>
                <a:latin typeface="Calibri"/>
              </a:rPr>
              <a:t>FFT 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000"/>
                </a:solidFill>
                <a:latin typeface="Calibri"/>
              </a:rPr>
              <a:t>(avec risque financi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effets sur les CMM du Gr2</a:t>
            </a:r>
            <a:br>
              <a:rPr sz="44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7 CSPS – DS Sebb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76320" y="1271520"/>
            <a:ext cx="8915400" cy="540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1444680" y="1295280"/>
            <a:ext cx="7547040" cy="1014480"/>
          </a:xfrm>
          <a:prstGeom prst="rect">
            <a:avLst/>
          </a:prstGeom>
          <a:ln w="0">
            <a:noFill/>
          </a:ln>
        </p:spPr>
      </p:pic>
      <p:cxnSp>
        <p:nvCxnSpPr>
          <p:cNvPr id="100" name="Straight Arrow Connector 8"/>
          <p:cNvCxnSpPr/>
          <p:nvPr/>
        </p:nvCxnSpPr>
        <p:spPr>
          <a:xfrm>
            <a:off x="6095520" y="3112560"/>
            <a:ext cx="129636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101" name="TextBox 9"/>
          <p:cNvSpPr/>
          <p:nvPr/>
        </p:nvSpPr>
        <p:spPr>
          <a:xfrm>
            <a:off x="609588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FFT S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Straight Arrow Connector 12"/>
          <p:cNvCxnSpPr/>
          <p:nvPr/>
        </p:nvCxnSpPr>
        <p:spPr>
          <a:xfrm>
            <a:off x="7467120" y="3112560"/>
            <a:ext cx="129636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13"/>
          <p:cNvSpPr/>
          <p:nvPr/>
        </p:nvSpPr>
        <p:spPr>
          <a:xfrm>
            <a:off x="746748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000"/>
                </a:solidFill>
                <a:latin typeface="Calibri"/>
              </a:rPr>
              <a:t>FFT 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çons apprises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portance des mesures d’accompagnement (formation des AS, filière MEG, supervision, contrôl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ractualisation très import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3. Analyse descriptive des CMM (quelque soit le mode de finan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saisonnalité » des C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ariabilité intra/inter CSPS des C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ts différenciés de l’épidémie de rougeole de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nditions de réus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1896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jeux sur le montant forfaitaire (son calcu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ationalité des prescriptions (pratiques des AS et disponibilité des ME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ombre d’hospitalisations (rationalis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servance des traitements (≠ revisi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portance des mesures d’accompagnement (formation des AS, filière MEG, supervision, contrôl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mboursement dans les dél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ecommand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férer le FFT vs REEL au regard de ses a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igueur dans le calcul du montant forfaitai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méth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eille « raisonnable » des coûts réel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disponibilité, accessibilité et fiabilité des données, méth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upless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actualisation du FFT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ctivité du contrôle et de la supervision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inclus l’utilisation de ses résulta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ractualiser le partenari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férer les préfinancement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l’exemption (pour éviter les retards de rembours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du DS de Seb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 de l’exem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exte – Jus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éthodologie de mise en œuvre du forfa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sult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çons appr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comma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résentation du DS de Seb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3640" y="928440"/>
            <a:ext cx="8391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ion du district sanitaire 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210 88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bre de FS publiques 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A: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PS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ensaires isolés 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yon moyen 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: 12,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bre de FS remplissant les normes  minimales en personnel 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résentation de l’exem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8380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Début: septembre 2008, DS de Dori et Seb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xemption du paiement des enfants de moins de 5 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ouverture améliorée donc taux d’utilisation a augmenté (de 0.6 contact/enfant/an à 3.5) entre 2008 et 201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Taux de mortalité diminué de 17% entre 2008 et 2009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Compilation par mois des ordonnances (800 à 1200 par FS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emboursement du coût réel des prestations offertes par les FS sur la base d’une facture adressée au tiers payant via le D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ntexte - Jus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ts +++ (…) de la subvention des soins E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5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ventualité d’un « passage à l’échelle » (PàE) de la « gratuité des soins » des E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5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(PNPS, MS et AM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mboursement au réel complexe à l’échelle nationale ; expérimentation du paiement au « forfait (FFT)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périences des AA/SONU B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0320" y="15480"/>
            <a:ext cx="91440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ircuit de remboursement et contrô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e 48"/>
          <p:cNvGrpSpPr/>
          <p:nvPr/>
        </p:nvGrpSpPr>
        <p:grpSpPr>
          <a:xfrm>
            <a:off x="380880" y="1295280"/>
            <a:ext cx="8454960" cy="4889160"/>
            <a:chOff x="380880" y="1295280"/>
            <a:chExt cx="8454960" cy="4889160"/>
          </a:xfrm>
        </p:grpSpPr>
        <p:sp>
          <p:nvSpPr>
            <p:cNvPr id="66" name="Rectangle 3"/>
            <p:cNvSpPr/>
            <p:nvPr/>
          </p:nvSpPr>
          <p:spPr>
            <a:xfrm>
              <a:off x="380880" y="1295280"/>
              <a:ext cx="1752480" cy="1265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Help ( tiers payant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4"/>
            <p:cNvSpPr/>
            <p:nvPr/>
          </p:nvSpPr>
          <p:spPr>
            <a:xfrm>
              <a:off x="6581880" y="1341000"/>
              <a:ext cx="1828800" cy="12794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District sanitai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( ECD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5"/>
            <p:cNvSpPr/>
            <p:nvPr/>
          </p:nvSpPr>
          <p:spPr>
            <a:xfrm>
              <a:off x="3394080" y="4808520"/>
              <a:ext cx="1981080" cy="1295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CSP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(prestataire des soins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9" name="Connecteur droit avec flèche 7"/>
            <p:cNvCxnSpPr/>
            <p:nvPr/>
          </p:nvCxnSpPr>
          <p:spPr>
            <a:xfrm>
              <a:off x="2441160" y="1736280"/>
              <a:ext cx="38869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" name="Connecteur droit avec flèche 8"/>
            <p:cNvCxnSpPr/>
            <p:nvPr/>
          </p:nvCxnSpPr>
          <p:spPr>
            <a:xfrm flipH="1">
              <a:off x="2459880" y="2449080"/>
              <a:ext cx="38487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" name="Connecteur droit avec flèche 11"/>
            <p:cNvCxnSpPr>
              <a:endCxn id="67" idx="2"/>
            </p:cNvCxnSpPr>
            <p:nvPr/>
          </p:nvCxnSpPr>
          <p:spPr>
            <a:xfrm flipV="1">
              <a:off x="5329080" y="2620440"/>
              <a:ext cx="2167560" cy="243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" name="Connecteur droit avec flèche 12"/>
            <p:cNvCxnSpPr/>
            <p:nvPr/>
          </p:nvCxnSpPr>
          <p:spPr>
            <a:xfrm>
              <a:off x="585000" y="2544120"/>
              <a:ext cx="2809080" cy="2667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" name="ZoneTexte 19"/>
            <p:cNvSpPr/>
            <p:nvPr/>
          </p:nvSpPr>
          <p:spPr>
            <a:xfrm>
              <a:off x="2603160" y="1351080"/>
              <a:ext cx="33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Financ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ZoneTexte 21"/>
            <p:cNvSpPr/>
            <p:nvPr/>
          </p:nvSpPr>
          <p:spPr>
            <a:xfrm rot="2580000">
              <a:off x="419400" y="3892680"/>
              <a:ext cx="27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Contrat De Prest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ZoneTexte 25"/>
            <p:cNvSpPr/>
            <p:nvPr/>
          </p:nvSpPr>
          <p:spPr>
            <a:xfrm>
              <a:off x="3645000" y="173736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Appui Techniqu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ZoneTexte 26"/>
            <p:cNvSpPr/>
            <p:nvPr/>
          </p:nvSpPr>
          <p:spPr>
            <a:xfrm>
              <a:off x="3020040" y="2448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ièces Justificativ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7" name="Connecteur droit avec flèche 27"/>
            <p:cNvCxnSpPr/>
            <p:nvPr/>
          </p:nvCxnSpPr>
          <p:spPr>
            <a:xfrm flipH="1">
              <a:off x="5374800" y="2728800"/>
              <a:ext cx="2807280" cy="3207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8" name="ZoneTexte 37"/>
            <p:cNvSpPr/>
            <p:nvPr/>
          </p:nvSpPr>
          <p:spPr>
            <a:xfrm rot="18840000">
              <a:off x="5422320" y="3937320"/>
              <a:ext cx="106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Factu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ZoneTexte 42"/>
            <p:cNvSpPr/>
            <p:nvPr/>
          </p:nvSpPr>
          <p:spPr>
            <a:xfrm rot="18720000">
              <a:off x="5026680" y="4058280"/>
              <a:ext cx="427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Approvisionnement des comptes après contrôle, suivi/ Supervis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ZoneTexte 21"/>
          <p:cNvSpPr/>
          <p:nvPr/>
        </p:nvSpPr>
        <p:spPr>
          <a:xfrm rot="2580000">
            <a:off x="680760" y="3508200"/>
            <a:ext cx="30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rôle conjoint ECD + Hel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6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éthodologie de mise en œuvre du forfait (1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marche de la RA/forfa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teliers d’échanges et de réflexion avec les parties prenan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lcul du montant forfaitaire : moyenne arrondie des coûts réels de 6 CSPS sur 30 mois (Jan09-Juin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troduction progressive ( avec et sans risque financier): 2 groupes de CS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136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éthodologie de mise en œuvre du forfait (2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72880"/>
            <a:ext cx="822960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gnature de convention entre le tiers payant et les prestataires ( ICP + COG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mptabilisation à partir des registres de consultation/ cahiers de vente journal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iement mensuel par le tiers pay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inuation des contrôles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 priori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 posteriori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ux niveaux CSPS et communaut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ncontres de suiv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mposition du montant forfait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Diagramme 16" descr=""/>
          <p:cNvPicPr/>
          <p:nvPr/>
        </p:nvPicPr>
        <p:blipFill>
          <a:blip r:embed="rId1"/>
          <a:stretch/>
        </p:blipFill>
        <p:spPr>
          <a:xfrm>
            <a:off x="212760" y="1127160"/>
            <a:ext cx="8493120" cy="5445000"/>
          </a:xfrm>
          <a:prstGeom prst="rect">
            <a:avLst/>
          </a:prstGeom>
          <a:ln w="0">
            <a:noFill/>
          </a:ln>
        </p:spPr>
      </p:pic>
      <p:sp>
        <p:nvSpPr>
          <p:cNvPr id="87" name="Explosion 2 3"/>
          <p:cNvSpPr/>
          <p:nvPr/>
        </p:nvSpPr>
        <p:spPr>
          <a:xfrm>
            <a:off x="5791320" y="1219320"/>
            <a:ext cx="3352680" cy="2057400"/>
          </a:xfrm>
          <a:prstGeom prst="irregularSeal2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Toutes les path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4T22:10:59Z</dcterms:created>
  <dc:creator>paho</dc:creator>
  <dc:description/>
  <dc:language>en-US</dc:language>
  <cp:lastModifiedBy>KABORE</cp:lastModifiedBy>
  <dcterms:modified xsi:type="dcterms:W3CDTF">2015-06-08T18:19:27Z</dcterms:modified>
  <cp:revision>126</cp:revision>
  <dc:subject/>
  <dc:title>PowerPoint Presentation</dc:title>
</cp:coreProperties>
</file>