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61A3-D539-4D65-92EA-8682260052F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590F-5E1F-47B6-AC79-BF0F30552FB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apport OASIS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F085-EEA5-462F-A462-409EB71A428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apport OASIS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527C-D352-4A2A-8F82-78EDEA5E7DF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CPFAS-Togo : Réseau des Champions en Plaidoyer pour le Financement Adéquat de la Santé au Tog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75BA-9CB0-422D-8E81-5B8385545A2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B41C-A576-4AB6-B059-DDD98FA7955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769E-AAE4-4D94-9EE2-DE08F09AEAD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6723-0311-44C8-8E69-A4D7A50A5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66D4-79E7-40CC-B0AE-CE8C5542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C329-A5C3-4C51-A029-4FE7E3C3E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4AE2-B88C-431C-8A2A-2A1CC9AED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DE18-4AF2-4C53-9254-9754EBFE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562B-54E4-4DFB-9096-DC5C76C4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D275-9C4B-40DF-B877-8AF2A5D8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43F8-12E9-4946-8379-E3307FE1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A35A-8876-465E-A503-EA449CCF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6519-08CF-4B19-B0FC-187449C6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78D7-7546-4EAF-9943-2A7135F5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221A-A945-4E26-85A2-88F3BE02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2369-652A-4AE6-8C44-98B3906A43C9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080C-40D2-47A7-980F-692DEF4B055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7058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w Cen MT"/>
                <a:ea typeface="Ebrima"/>
              </a:rPr>
              <a:t>REPUBLIQUE TOGOLAISE</a:t>
            </a:r>
            <a:br>
              <a:rPr sz="2800"/>
            </a:br>
            <a:r>
              <a:rPr b="1" lang="fr-FR" sz="1300" spc="-1" strike="noStrike">
                <a:solidFill>
                  <a:srgbClr val="005c00"/>
                </a:solidFill>
                <a:latin typeface="Arial Narrow"/>
                <a:ea typeface="Arial"/>
              </a:rPr>
              <a:t>MINISTERE DE LA SANTE ET DE LA PROTECTION SOCIA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1872-DD2B-43BB-8CFA-A57E953395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necteur droit 4"/>
          <p:cNvSpPr/>
          <p:nvPr/>
        </p:nvSpPr>
        <p:spPr>
          <a:xfrm>
            <a:off x="1116000" y="1628640"/>
            <a:ext cx="6840720" cy="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3419640" y="5300640"/>
            <a:ext cx="4824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d0d0d"/>
                </a:solidFill>
                <a:latin typeface="Arial Narrow"/>
              </a:rPr>
              <a:t>Lomé, 09 février 201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1692360" y="4160880"/>
            <a:ext cx="619272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100" spc="-1" strike="noStrike">
                <a:solidFill>
                  <a:srgbClr val="000000"/>
                </a:solidFill>
                <a:latin typeface="Calibri"/>
              </a:rPr>
              <a:t>Cadre institutionnel et modalités de mobilisation des financements domestiques pour la santé</a:t>
            </a:r>
            <a:r>
              <a:rPr b="1" lang="fr-CH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835280" y="3029040"/>
            <a:ext cx="56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70c0"/>
                </a:solidFill>
                <a:latin typeface="Arial Narrow"/>
                <a:ea typeface="MS Mincho"/>
              </a:rPr>
              <a:t>Dialogue national sur le financement de la santé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3211920" y="3419640"/>
            <a:ext cx="27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  <a:ea typeface="MS Mincho"/>
              </a:rPr>
              <a:t>_ _ _ _ _ _ _ _ _ _ _ __ 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il_fi" descr="http://www.republicoftogo.com/var/ezflow_site/storage/images/toutes-les-rubriques/medias/a-quelles-armoiries-se-vouer/27857-1-fre-FR/A-quelles-armoiries-se-vouer_article_top.jpg"/>
          <p:cNvPicPr/>
          <p:nvPr/>
        </p:nvPicPr>
        <p:blipFill>
          <a:blip r:embed="rId1"/>
          <a:srcRect l="1756" t="0" r="56632" b="15791"/>
          <a:stretch/>
        </p:blipFill>
        <p:spPr>
          <a:xfrm>
            <a:off x="4076640" y="1773360"/>
            <a:ext cx="9907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7991280" cy="93672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Mobilisation du  financement domestique</a:t>
            </a:r>
            <a:br>
              <a:rPr sz="3400"/>
            </a:b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pour la CMU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1/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78920" y="1701360"/>
            <a:ext cx="8425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800000"/>
                </a:solidFill>
                <a:latin typeface="Calibri"/>
              </a:rPr>
              <a:t>CONSTA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 Togo, il y a une Assurance maladie à vocation universelle: INA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inancement: 3 à 4 milliards par an de l’Etat en tant que part employeur (3,5% des salaires) pour 300.000 personnes (salariés et ayants droi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tisation des fonctionnaires de l’Etat : 3,5% des salai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couverture d’une personne pour 1 an demande 22.000F  pour le panier actuel INAM (consultation, médicament, chirurgie, imagerie, lunetterie, prothès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 moins 80% de la population active est  dans l’informel avec des revenus non maitrisé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Espace réservé du numéro de diapositive 3"/>
          <p:cNvSpPr/>
          <p:nvPr/>
        </p:nvSpPr>
        <p:spPr>
          <a:xfrm>
            <a:off x="69786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DF4E-1D03-470E-8C18-B834F2F3ED6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24000" y="404640"/>
            <a:ext cx="360360" cy="360360"/>
          </a:xfrm>
          <a:prstGeom prst="rect">
            <a:avLst/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93672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Mobilisation du  financement domestique</a:t>
            </a:r>
            <a:br>
              <a:rPr sz="3400"/>
            </a:b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pour la CMU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2/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78920" y="1267920"/>
            <a:ext cx="8496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Calibri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certitude de la capacité contributive de la population:  étude en cou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certitude sur les mécanismes de collecte des contributions du secteur inform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certitude d’aller à la couverture universelle avec le panier actuel IN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vantage d’une caisse d’assurance maladie de recevoir aussi bien des subventions de l’Etat que des financements dédié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alibri"/>
              </a:rPr>
              <a:t>RECOMMAND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Faire des études actuarielles pour proposer des options financières réalistes à l’Etat (panier, coût, financemen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69786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1F80-1F46-4B3C-A282-EA82EDA70FC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324000" y="404640"/>
            <a:ext cx="360360" cy="360360"/>
          </a:xfrm>
          <a:prstGeom prst="rect">
            <a:avLst/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424720" cy="504720"/>
          </a:xfrm>
          <a:prstGeom prst="rect">
            <a:avLst/>
          </a:prstGeom>
          <a:noFill/>
          <a:ln w="9360">
            <a:solidFill>
              <a:srgbClr val="4a452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Mise en commun des fonds domestiques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1/2)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8000" y="836640"/>
            <a:ext cx="88567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Calibri"/>
              </a:rPr>
              <a:t>CONSTA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NAM, caisse qui reçoit les cotisations employeurs et employés du secteur publ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imites : statut et loi ne permettant pas d’enrôler d’autres bénéficiaires hors secteur publ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xistence d’autres mutuelles, couvrant 16.000 bénéficiaires pour 0,04% de dépense totale en santé en 2008 et d’assurances maladie privées  pour 2,3% des dépenses de santé (CNS, 2008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xistence d’autres subventions de l’Etat: césarienne, indigents, dialyse, ARV, évacuation sanitai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000"/>
                </a:solidFill>
                <a:latin typeface="Calibri"/>
              </a:rPr>
              <a:t>ANALY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statut de l’INAM lui permet une gestion autono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ragmentation et diversité des fonds existants en matière de CSU, d’où une faible viabilité financière du systèm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’extension de la CSU  à toute la population pose la question de l’architecture appropriée  pour sa ges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Opportunité de diminuer le paiement direct des ménages par la mutualisation des cotisa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699624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5959-6669-410B-87D1-D0970FF9E27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250920" y="189000"/>
            <a:ext cx="360360" cy="360360"/>
          </a:xfrm>
          <a:prstGeom prst="rect">
            <a:avLst/>
          </a:prstGeom>
          <a:solidFill>
            <a:srgbClr val="4a452a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424720" cy="504720"/>
          </a:xfrm>
          <a:prstGeom prst="rect">
            <a:avLst/>
          </a:prstGeom>
          <a:noFill/>
          <a:ln w="9360">
            <a:solidFill>
              <a:srgbClr val="4a452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Mise en commun des fonds domestiques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2/2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000" y="1341000"/>
            <a:ext cx="8856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ff"/>
                </a:solidFill>
                <a:latin typeface="Calibri"/>
              </a:rPr>
              <a:t>RECOMMAND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Faire une évaluation pour bien apprécier l’efficacité et l’efficience de la gestion de INAM et les autres fo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Réviser  la loi sur l’assurance maladie obligatoire  et le décret portant organisation de l’INAM pour passer à l’échel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Proposer une structure unique qui englobe les structures existant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Mener des actions vers les collectivités locales pour leur participation active dans la mobilisation des fond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699624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5D2A-05C0-486A-AE93-893BC5600ED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250920" y="189000"/>
            <a:ext cx="360360" cy="360360"/>
          </a:xfrm>
          <a:prstGeom prst="rect">
            <a:avLst/>
          </a:prstGeom>
          <a:solidFill>
            <a:srgbClr val="4a452a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63504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Achat de services de santé par l’assurance maladie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87280" y="907920"/>
            <a:ext cx="85694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00000"/>
                </a:solidFill>
                <a:latin typeface="Calibri"/>
              </a:rPr>
              <a:t>CONSTATS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: IN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nier de soins assez large (consultation, médicament, labo, chirurgie, imagerie, lunetterie, prothèse, etc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dalités de payement: Tiers payant à l’acte avec base de taux de rembours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alibri"/>
              </a:rPr>
              <a:t>ANALYS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’assuré bénéficie d’un accès à de nombreux services curatifs sans barrière financiè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système INAM ne suffit pas à offrir des soins de qualité: disponibilité de soins non uniforme sur toute l’étendue du territo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recours aux soins a augmenté avec INA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Calibri"/>
              </a:rPr>
              <a:t>RECOMMAND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Définir un panier de soins de base pour tous qui répond aux besoins essentiels de la popula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méliorer la qualité de l’offre de soins dans toute la pyramide sanita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ationnaliser l’offre de soins à travers un système de référence et contre-référen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Espace réservé du numéro de diapositive 3"/>
          <p:cNvSpPr/>
          <p:nvPr/>
        </p:nvSpPr>
        <p:spPr>
          <a:xfrm>
            <a:off x="6973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9D4B-3168-4ED4-ACEF-9C26B43E559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50920" y="260280"/>
            <a:ext cx="360360" cy="360360"/>
          </a:xfrm>
          <a:prstGeom prst="rect">
            <a:avLst/>
          </a:prstGeom>
          <a:solidFill>
            <a:srgbClr val="984807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ER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22E3-C16F-45CD-8683-36E787834EE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2082960"/>
            <a:ext cx="8229600" cy="269208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Point 1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Proposer une plateforme nationale de mobilisation des ressources domestiques, sa composition, sa mission et la description des rôles et responsabilités de chaque acteur ou secteur memb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5402-2EFA-4989-83F3-A0AE094B4BF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86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nsta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0600" y="141264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Existe-t-il déjà une plate-forme ou cadre institutionnel pour la mobilisation de financement domestique?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A priori non, mais il existe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mité santé VI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mité IHP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éseau des Champions en Plaidoyer pour le Financement Adéquat de la Santé au Togo (Association loi 1901) peu fonctionnel, mais a eu un résultat dans le financement de la PF (appui de AGIR PF pour élire un nouveau bureau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lates-formes très larges, non focalisées sur le financement de la santé ou pas totalement fonctionnelles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79280" y="333360"/>
            <a:ext cx="360360" cy="358920"/>
          </a:xfrm>
          <a:prstGeom prst="rect">
            <a:avLst/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4387-9429-4524-BCF0-1A089142671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Analyse des problè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esoin d’augmenter le financement domestique pour la sant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esoin d’appropriation à haut niveau de la problématique du financement domestique de la san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esoin d’un cadre institutionnel de haut niveau pour la mobilisation et le suivi stratégique du financement domestique de la sant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179280" y="333360"/>
            <a:ext cx="360360" cy="358920"/>
          </a:xfrm>
          <a:prstGeom prst="rect">
            <a:avLst/>
          </a:prstGeom>
          <a:solidFill>
            <a:srgbClr val="604a7b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A6D2-EFE6-4E70-9183-82EEC6C88DD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0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Recommandatio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Mettre en place un comité de pilotage /cadre institution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a mission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ccélérer les reformes pour la mobilisation adéquate des ressources publiques et privée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pour la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ant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79280" y="333360"/>
            <a:ext cx="360360" cy="358920"/>
          </a:xfrm>
          <a:prstGeom prst="rect">
            <a:avLst/>
          </a:prstGeom>
          <a:solidFill>
            <a:srgbClr val="4f6228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FDFE-1CD1-4325-A438-8C8409ED6CB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Objectifs du cadre institutionnel/ comité de pilot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S’approprier toutes les initiatives et décisions en matière de mobilisation de ressources pour la sant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roposer des priorités pour la mobilisation de ressources financières en santé (stratégies, financements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Faciliter les réformes pour la mise en œuvre des mécanismes de mobilisation de ressources additionnell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Faire le suivi stratégique de la mise en œuvre du financement de la santé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Assurer un dialogue continu avec le groupe de plaidoyer (RCPFAS-Togo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50920" y="476280"/>
            <a:ext cx="360360" cy="360360"/>
          </a:xfrm>
          <a:prstGeom prst="rect">
            <a:avLst/>
          </a:prstGeom>
          <a:solidFill>
            <a:srgbClr val="4f6228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FCB0-DBC4-4CBF-8736-3B56BEDD2E6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779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Composition du comité de pilot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00360" y="1915920"/>
            <a:ext cx="4392360" cy="40338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ncrage institutionn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ésidence? Possible avec l’existence d’un  chargé des études sur le financement innovant…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rgane technique en support pour assurer le fonctionnement du comité de pilotage (compétences en santé, protection sociale, finance, société civil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250920" y="404640"/>
            <a:ext cx="360360" cy="360360"/>
          </a:xfrm>
          <a:prstGeom prst="rect">
            <a:avLst/>
          </a:prstGeom>
          <a:solidFill>
            <a:srgbClr val="4f6228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623F-3FAB-45CC-8D80-C7EE3389CD1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ontent Placeholder 2"/>
          <p:cNvSpPr/>
          <p:nvPr/>
        </p:nvSpPr>
        <p:spPr>
          <a:xfrm>
            <a:off x="108000" y="1125360"/>
            <a:ext cx="4319640" cy="573264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Représentativité multisectoriel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ésidence de la Républiq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imatu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a San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a planification du développ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s financ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a Décentralis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 du Commer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’économie numériq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arlem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ecteur priv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ociété Civile y compris les méd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T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8960" y="259920"/>
            <a:ext cx="8506080" cy="108108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oint 2 :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Déterminer les modalités de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obilisation des financements domestiques pour la san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2 sources actuelles de financement 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axes pour l’Etat 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inancement privé y compris paiement direct des mén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Des modalités autour des réformes pour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lus d’argent dans le budget Etat  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inancements innovants 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ransformation d’une partie du paiement direct des ménages en cotisa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lèche vers le bas 4"/>
          <p:cNvSpPr/>
          <p:nvPr/>
        </p:nvSpPr>
        <p:spPr>
          <a:xfrm>
            <a:off x="4211640" y="4941720"/>
            <a:ext cx="720720" cy="79092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ZoneTexte 5"/>
          <p:cNvSpPr/>
          <p:nvPr/>
        </p:nvSpPr>
        <p:spPr>
          <a:xfrm>
            <a:off x="900000" y="5805360"/>
            <a:ext cx="73440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c00000"/>
                </a:solidFill>
                <a:latin typeface="Calibri"/>
              </a:rPr>
              <a:t>Opportunité d’une caisse d’assurance maladie comme mécanisme de financement de la sant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5198-3173-4661-86F1-2809E0A017D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900000" y="2349360"/>
            <a:ext cx="7344000" cy="215928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Point 2 revisité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Déterminer les modalités de collecte et de mise en commun des fonds et achat de services de santé par l’assurance maladie 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74F1-44BA-44E3-8083-13F3CBEB311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18600" y="259920"/>
            <a:ext cx="4684680" cy="1081080"/>
          </a:xfrm>
          <a:prstGeom prst="rect">
            <a:avLst/>
          </a:prstGeom>
          <a:noFill/>
          <a:ln w="76320">
            <a:solidFill>
              <a:srgbClr val="a6a6a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7f7f7f"/>
                </a:solidFill>
                <a:latin typeface="Calibri"/>
              </a:rPr>
              <a:t>Point 2 : </a:t>
            </a:r>
            <a:r>
              <a:rPr b="0" i="1" lang="fr-CH" sz="2400" spc="-1" strike="noStrike">
                <a:solidFill>
                  <a:srgbClr val="7f7f7f"/>
                </a:solidFill>
                <a:latin typeface="Calibri"/>
              </a:rPr>
              <a:t>Déterminer les modalités de </a:t>
            </a:r>
            <a:r>
              <a:rPr b="0" i="1" lang="fr-FR" sz="2400" spc="-1" strike="noStrike">
                <a:solidFill>
                  <a:srgbClr val="7f7f7f"/>
                </a:solidFill>
                <a:latin typeface="Calibri"/>
              </a:rPr>
              <a:t>mobilisation des financements domestiques pour la sant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lèche vers le bas 4"/>
          <p:cNvSpPr/>
          <p:nvPr/>
        </p:nvSpPr>
        <p:spPr>
          <a:xfrm>
            <a:off x="1835280" y="1484280"/>
            <a:ext cx="504720" cy="720720"/>
          </a:xfrm>
          <a:prstGeom prst="downArrow">
            <a:avLst>
              <a:gd name="adj1" fmla="val 50000"/>
              <a:gd name="adj2" fmla="val 29498"/>
            </a:avLst>
          </a:prstGeom>
          <a:solidFill>
            <a:srgbClr val="d9d9d9"/>
          </a:solidFill>
          <a:ln w="9360">
            <a:solidFill>
              <a:srgbClr val="a6a6a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6T11:50:22Z</dcterms:created>
  <dc:creator>Administrator</dc:creator>
  <dc:description/>
  <dc:language>en-US</dc:language>
  <cp:lastModifiedBy>TOSHIBA</cp:lastModifiedBy>
  <dcterms:modified xsi:type="dcterms:W3CDTF">2017-02-09T08:09:01Z</dcterms:modified>
  <cp:revision>74</cp:revision>
  <dc:subject/>
  <dc:title>Groupe 2 : Cadre institutionnel et modalités de mobilisation des financements domestiques pour la santé</dc:title>
</cp:coreProperties>
</file>