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5C26-D066-429A-888F-E67D338A538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09E3-C169-4E8A-9062-3B23C2491A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D00D-EB0B-4448-A8E3-89266D0AB2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4409-4619-49B9-AA8D-C616FB53889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D41C-237B-489F-B7FC-56B3C45C16F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166D-DED9-480D-83F5-92B7051007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966D-92BB-4E6F-8662-8CCFA8F4738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5064-3F46-48BF-9FC4-BE533B6D7D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859F-4BDC-43A1-8A49-FF924019D53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25F16-7FDF-4F70-AEBF-DA09C56B1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9016C-2321-47CF-9A17-CA482326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0205D-00F0-4EF8-A149-3B809C274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7EFD5-9EC4-492E-A8B7-A5FB96FF0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C456E-3E16-493A-8B16-923D0AF37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D8995-ADE1-4632-AA46-B1E0AFFD6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CFEEE-8C35-479F-B6D9-1046E3B07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E4ED7-AA68-4A29-A4E0-8CD643180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A0A56-B78B-4BA5-9C85-C9C07D099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1CBCA-D1D0-45FA-8DDC-EC14DEAA0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A981-BA00-492E-8F6C-CA2EDFE5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F809-AF23-466B-A93E-23823AF7E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B35D0-D617-438B-BF2B-66E84EC9A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916FA-F3A4-46EA-BE6E-05C4207FD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B585D-81AF-4CC8-87A2-1F78F636E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E5CB6-5372-4079-A5B2-60520C4DC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A8F77-F978-479A-B662-1B6F7F757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C13174-8312-4197-824B-C569DE2F3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55C33-BA36-4527-9AB2-79B8B63C4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6388C-220B-4AF8-B5D1-63CC6E1BD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3BEA6-865F-4887-B224-6CA8BEB0E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334048-471F-4207-94B3-7B4838F81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C10EE-F8CA-48A0-A612-1E6C7447B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55CFB-F98B-4CDD-965F-34DBDC1B4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F0D45-03CF-4565-938D-376346420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A24BD-E47D-42ED-96A8-0F5839DCB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63CE6-E467-40FE-966F-716C0642F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2EEC5-91BB-46F9-BF3C-DFF9C02C5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F75AA-7BD3-48F9-981C-C576098735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F079E-4411-48D5-97FC-B6935B0A0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EB06A7-19D9-488F-BD2B-3C16C8F26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63640-76B8-4DC2-861F-18CEF29DE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1F8FC-8711-4B60-9EDD-A7F8B2A48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D9FC-39D2-4097-9100-5169596D9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FC617-F595-4145-B139-7463DA7B5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0BAFC-E46C-46BC-958B-88E0E9813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5933F-A655-4E6C-BE6F-49DF48D59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8414E-42FA-4CB6-B642-D3F8857A0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00D49-6BF0-442B-90D7-55CD9E7AD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1BC00-4E40-4B21-AC14-C643CF523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31ECC-BB05-4F02-93F1-F301AAE21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6E941-682E-4FEA-AB32-D61FA98D5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8C4457-94D0-45D8-AF66-FA6603C7E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1DFF03-E15B-4E03-B0BA-2B9DEA48D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D1FD1-2F03-47FF-9B98-1A4F8F6C6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6278EB-667D-451A-BAEF-F4002BE4F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8D0C6-F681-44C7-97FC-7D320790B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6B1E5-06EB-4474-AEEC-4DC11E858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E4CBC-D65E-4C70-9DD3-217E7DF92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E2AA3-3419-42F5-BB15-1AC9A6F4E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A8629-D20E-4753-9856-4246044BA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24E19-8059-4187-8CB8-2505457F8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AF7F7-1D1A-43DE-92C7-05E361C5D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97D1D-F04A-42DA-A2DA-775D9523D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12D5BA-78B2-4F74-8758-FEF4D58416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1D77-EBB5-4E11-A3BD-559C36C2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53CFE0-8997-4B67-8722-D21DE3D903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80843B-EC32-4B66-A2A0-E0C7AADA4E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A619A-C5CF-44D3-B2E7-8F02EE748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91A5A-5756-434D-A0E9-54A4B3359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63503-370C-445E-B2E9-FD605BAC6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82252-7380-49B6-8B1F-33042125F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D794C-BAA3-4638-A8B5-F82A227F2D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8B458-3336-4060-AA57-55F0F7094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30533-9D8B-4FB7-8EE3-CCB530E0D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F704D-B7B2-42A6-9BE3-C7196796C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9A0F-4B6F-4A49-AF47-CB7E815E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7B71F-8301-45EF-829E-1F7841593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B7F6C-63A7-4F12-951A-34B0FB503B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2E467-D560-477C-863C-B36E5B630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C3A92-EE47-4851-BA0E-68961F8F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D716-D7E0-4A9A-B53D-241AA785F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F4B6-349E-4B04-9FAE-D349CE575E3F}"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B6A6-56C6-45A1-81B4-57EE9A47837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30E3-DDE5-417E-872F-6AEA47A77E37}"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B547-C67F-4887-B003-84D1C062348E}"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EDFA-BFCE-4585-9CDA-2E65DE42E019}"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7F09-D837-4723-877D-2A54728EF2F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091F-327E-4A4B-A243-5F7B4B540A3E}"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E132-F76F-4CBE-98E6-D2774FF4E52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5945-ED81-4357-A7EE-01BCBE05D796}"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8015-3C77-4207-8AA7-DF3696B7E99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D88D-F30D-4651-8FD0-40BAFCAA25F2}" type="datetime">
              <a:rPr b="0" lang="en-US" sz="1000" spc="-1" strike="noStrike">
                <a:solidFill>
                  <a:srgbClr val="474233"/>
                </a:solidFill>
                <a:latin typeface="Tw Cen MT Condensed"/>
              </a:rPr>
              <a:t>07/29/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FD35-8888-45F0-B0D4-660B10920DC6}"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4C07B-F484-4E75-916E-690E46FC669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5F256-5BDB-4A3D-99F0-0ACB8CA42BC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B1B27-C71C-417D-8935-D7950F4634D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93A4A-B2D0-4C2D-A5DF-9322DD97425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4C41A-4C14-4641-B636-3E2848BFFEB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E93F-5671-4F66-B480-EC03B381A4D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ADFB5-8420-4841-872E-ADA46DE4302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