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9AA1-D623-4777-B5DE-56AFEC124B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BE32-5218-47A4-8A94-DD18836111B5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A228-7F71-4B3D-A174-4C45AAED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C489-08FC-46A7-B2F0-8DF11F75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BF98-9361-4CA3-B78F-0A6C80A6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A8B7-D1BA-45C8-A1ED-99D205AD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60F6-0A66-4E4C-BD51-CDA0B3EC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7505-1437-4D98-AB03-B0E7FDC0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3CA1-C019-40D7-A430-2A4B042D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D715-6D7A-4FFC-9655-B11B3204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38F6-3B2C-42B9-9043-97639A19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DE0D-D765-4857-9C40-2D8630C8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5AA5-3DBC-43E3-810F-46519FA2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10E5-B98E-44D4-9439-49F2EB5F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CB40-335B-44BC-945C-DB8F8E29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C8C3-37B0-4E53-926A-47E5BFA8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7344-05C1-475F-BF27-AFEE807E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CB0F-DD72-4762-90BE-69609115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B2FA-5EF4-4BF0-B365-9402017C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871FA8-67E7-45A6-A77B-DE3C5774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01F21-F0A5-40BB-AFCE-2271C60C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D42A82-5162-4BE6-8174-C0E442B1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1B0100-08AF-4590-83D2-DF5C1B15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717CE6-F1F9-4B2E-B0A9-9C32DDBC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646-44D9-418A-A8F3-6C1DB4CD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354202-0D18-44DE-9D4E-64564119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094640-D717-4751-9588-AE0A92BF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99D325-AA75-4B31-AA02-305B385B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5AF4A3-9C9E-48B9-B698-02130EEB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12D58E-867F-4AF3-AC9A-08B9EBB0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C8A9C8-5B67-4CDC-83FF-C0E1B23B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52C315-72C2-471F-B7CD-FF5A11AC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3D8C34-667F-4734-9B9A-A7368D94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C84CA4-1A0F-4C1E-8588-44A09CC2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5C5E24-36E5-451F-A94F-DDFA45EC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C8FD-BFE9-4381-AE12-F8E3AD3C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B95831-A340-47CC-83F3-6631AC4D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749DC5-E63A-484D-A64B-B4F5E2C9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134B88-8F36-453A-A1F6-31191FE8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C4B94E-EB7A-46D6-A667-6CF281B9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83629E-11CA-4D0F-A186-CAB6C8B3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D19B7C-514C-46A3-8074-82589BF5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966EB4-F29C-4F60-80D9-3639E7EF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C2458A-9FBE-4D38-91B8-9E35741F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A98402-60C3-49C8-9EA1-32E0B6B0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700CA5-E769-4CB4-9BFE-96B0DBA9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7086-4EF1-46D0-909B-4FE693C6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CC10DF-05B3-48C9-9774-3822DE15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FC08AE-3CE9-4581-B7B1-3CF56395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6D836B-1087-4646-A260-DE06F56A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B8F977-2106-49D4-9B3F-75C335DA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50150D-8450-4206-9672-963BFF4F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F7CBA5-1D04-49B8-B84A-B2A4EC68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95F533-2ADC-4DCA-A91D-164050F8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E75134-E9BE-42ED-871D-CBCC4B63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10AB06-0282-4078-A194-EB360C77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A4E240-B93F-455D-8890-6BB410E2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11CB-79AC-499F-9FAE-9FAC1609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315E76-2126-4164-95B8-9633131A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3F7D8-2918-44A8-B778-ECB0E451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01D1C-45EC-42D3-8432-8D436C68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4EBFA-A097-41EB-B5A1-76DBDB17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46442-CE5F-4AE0-9C46-E88B6F5F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213B9-C490-4995-AE77-9BD93149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02ED3-03A7-4CE2-B93A-78492AAB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AF976-492B-4866-90C9-16BC89FF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56ECC-DBF0-43DB-AE1C-5334C7C3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7927F-C2AB-4468-9B51-8DB1B0A2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BA3C-971E-48F3-ADA4-4023AE8C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903EF-B6A3-4DEE-92BF-95088D62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80EF7-CED8-47C8-9D87-24E4FA29C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A1A37-19EB-448A-B821-75530113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AE2AE5-88F5-41AA-8C52-6C786089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77A27B-B192-4434-9A72-162F59B5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4BAEF4-E183-41D6-91D5-2896E1EA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FCA5F5-1E64-4A33-A122-50A10C69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9574AD-7361-481F-AC7F-8F0DDC1E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F334EF-EA12-4F33-9AB7-8C966806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D748D8-A8D9-4272-B1A7-F8EE71D3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C3AE-8034-431A-A666-A47F445A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1FD6F3-F266-4F77-AFFC-DE978EC5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7A3CFA-EC83-48CC-A416-A30C35AF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3A2F8A-6EB1-4E16-99F6-D7F8AC7D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2D3E14-CC7F-4D4C-B133-D3ACD6661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E85CE0-D3C9-4D2E-A240-DF0EF09D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80249-9FD2-4D1F-A723-8831587F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4AC01-F20E-44A6-A555-E5CAEC7C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4E6E8-8EB1-4344-A136-2FB477F6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25701-8A0E-4591-AC1D-B64E694D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2426F-D6BC-4B7C-970D-0F996A31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15FE-F137-4D05-9E2E-6B66CC8C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E4612-7248-48FB-A7F8-6EC82160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5802D-990E-4188-8EE6-C16AFE08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CD9BB-DC0A-4BC1-A03F-000E7014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4543C-9A3D-4302-B240-A1110989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641BE-F8E2-43AA-98A3-0E7905FF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A4670-9A2F-4370-A88B-FE82E612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7BDA2-1329-4B89-A03B-EEDE9D99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F454-3172-4839-AC4A-9B82E3CB35FA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E4B6-D111-4C62-A868-1123D8CB6F0C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9121-0517-419D-85E8-5AD06A31132C}" type="datetime">
              <a:rPr b="0" lang="fr-FR" sz="21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F54F-607D-45A8-A96A-18913DCACA98}" type="slidenum">
              <a:rPr b="1" lang="fr-FR" sz="16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5245-42F5-41A4-B593-18A995782BDD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A419-84DD-4014-9D60-5FE2EF04F58B}" type="slidenum">
              <a:rPr b="1" lang="fr-FR" sz="2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EA47-9860-478C-A88F-E77D7D119DD1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8EA2-C193-41AE-93B2-AA7ABB6C5A58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7D81-51CE-427A-8F5F-01DEE9F05D22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4535-3FFB-4730-97B9-3885E223B1DD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DC3F-93C4-4CB1-80F7-6D788A1F9F30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B765-CEA8-4B1E-A238-9A7D1BEB5AF1}" type="slidenum">
              <a:rPr b="1" lang="fr-FR" sz="16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D5D3-FA1E-40DD-9564-B74356E21CFF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FB9F-7D92-4D97-BA4E-C9D001720630}" type="slidenum">
              <a:rPr b="1" lang="fr-FR" sz="2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F7F6-7641-4096-B896-EB4CC885EDE4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24F5-3839-460C-BC62-19498867E68E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Recto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Fiche%20de%20prise%20en%20charge%20Hospitali&#232;re.doc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000920" cy="900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58bb8"/>
                </a:solidFill>
                <a:latin typeface="comic"/>
              </a:rPr>
              <a:t>PRÉSENTATION MSU/LB</a:t>
            </a:r>
            <a:r>
              <a:rPr b="0" lang="fr-FR" sz="4100" spc="-1" strike="noStrike">
                <a:solidFill>
                  <a:srgbClr val="558bb8"/>
                </a:solidFill>
                <a:latin typeface="Tw Cen MT"/>
              </a:rPr>
              <a:t> </a:t>
            </a:r>
            <a:endParaRPr b="0" lang="en-US" sz="41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899640" y="1915920"/>
            <a:ext cx="7272360" cy="865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62626"/>
                </a:solidFill>
                <a:latin typeface="Tw Cen MT"/>
              </a:rPr>
              <a:t>Atelier sur l’Assurance Maladie Universelle</a:t>
            </a:r>
            <a:br>
              <a:rPr sz="800"/>
            </a:b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62626"/>
                </a:solidFill>
                <a:latin typeface="Tw Cen MT"/>
              </a:rPr>
              <a:t>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Tw Cen MT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76320" y="606888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AAC5-E6E4-45A0-9D3E-E511643363FA}" type="datetime">
              <a:rPr b="0" lang="fr-FR" sz="2100" spc="-1" strike="noStrike">
                <a:solidFill>
                  <a:srgbClr val="ffffff"/>
                </a:solidFill>
                <a:latin typeface="Arial"/>
                <a:ea typeface="Arial"/>
              </a:rPr>
              <a:t>29/07/26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19C7-B10C-4D42-94DF-E31F73464517}" type="slidenum">
              <a:rPr b="1" lang="fr-FR" sz="1600" spc="-1" strike="noStrike">
                <a:solidFill>
                  <a:srgbClr val="ebddc3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377" name="ZoneTexte 1"/>
          <p:cNvSpPr/>
          <p:nvPr/>
        </p:nvSpPr>
        <p:spPr>
          <a:xfrm>
            <a:off x="539640" y="3933720"/>
            <a:ext cx="7993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262626"/>
                </a:solidFill>
                <a:latin typeface="Tw Cen MT"/>
              </a:rPr>
              <a:t>Expérience de la Mutuelle de Santé Urbaine Laafi Baoré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900" spc="-1" strike="noStrike">
                <a:solidFill>
                  <a:srgbClr val="262626"/>
                </a:solidFill>
                <a:latin typeface="Tw Cen MT"/>
              </a:rPr>
              <a:t>                                                                                             </a:t>
            </a:r>
            <a:r>
              <a:rPr b="1" i="1" lang="fr-FR" sz="1900" spc="-1" strike="noStrike">
                <a:solidFill>
                  <a:srgbClr val="262626"/>
                </a:solidFill>
                <a:latin typeface="Tw Cen MT"/>
              </a:rPr>
              <a:t>Par Marcel Z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100" spc="-1" strike="noStrike">
                <a:solidFill>
                  <a:srgbClr val="262626"/>
                </a:solidFill>
                <a:latin typeface="Tw Cen MT"/>
              </a:rPr>
              <a:t>                                                                                                                                                                    </a:t>
            </a:r>
            <a:r>
              <a:rPr b="1" i="1" lang="fr-FR" sz="2000" spc="-1" strike="noStrike" u="sng">
                <a:solidFill>
                  <a:srgbClr val="262626"/>
                </a:solidFill>
                <a:uFillTx/>
                <a:latin typeface="Tw Cen MT"/>
              </a:rPr>
              <a:t>Président du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8" descr=""/>
          <p:cNvPicPr/>
          <p:nvPr/>
        </p:nvPicPr>
        <p:blipFill>
          <a:blip r:embed="rId1"/>
          <a:stretch/>
        </p:blipFill>
        <p:spPr>
          <a:xfrm>
            <a:off x="742968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696080" cy="736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II. Prestations prises en charge suite 3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95AC-0074-4C22-8B74-6687196B29EB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8788-4104-4223-9A9B-C8F01D205DB5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56760" y="1571400"/>
            <a:ext cx="8425080" cy="4786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Tw Cen MT"/>
              </a:rPr>
              <a:t>Dans les CMA, CMU et CHU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consultations généralistes et spécialisé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analyses de labo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soins dentaires sans prothès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soins ophtalmologiques sans lunett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opérations chirurgica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hospitalisations chirurgical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hospitalisations médical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’accouchement dystociqu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frais d’hôtellerie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8" descr=""/>
          <p:cNvPicPr/>
          <p:nvPr/>
        </p:nvPicPr>
        <p:blipFill>
          <a:blip r:embed="rId1"/>
          <a:stretch/>
        </p:blipFill>
        <p:spPr>
          <a:xfrm>
            <a:off x="7500960" y="142920"/>
            <a:ext cx="1571760" cy="107136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153280" cy="714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V. Statistiques d’évolution de la MSU/LB 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214200" y="1214280"/>
          <a:ext cx="8715600" cy="5643720"/>
        </p:xfrm>
        <a:graphic>
          <a:graphicData uri="http://schemas.openxmlformats.org/drawingml/2006/table">
            <a:tbl>
              <a:tblPr/>
              <a:tblGrid>
                <a:gridCol w="1452600"/>
                <a:gridCol w="1452600"/>
                <a:gridCol w="1452600"/>
                <a:gridCol w="1452600"/>
                <a:gridCol w="1452600"/>
                <a:gridCol w="14526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dhér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énéfici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tisation recouvr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 016 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 957 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903 7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 123 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752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ise en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990 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785 5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 421 7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 847 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027 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br de c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fréqu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3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,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6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recouv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5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9.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5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6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0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sinistra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93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  <p:sp>
        <p:nvSpPr>
          <p:cNvPr id="426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B881-DB71-4C66-A72D-97B9896D76F8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8" descr=""/>
          <p:cNvPicPr/>
          <p:nvPr/>
        </p:nvPicPr>
        <p:blipFill>
          <a:blip r:embed="rId1"/>
          <a:stretch/>
        </p:blipFill>
        <p:spPr>
          <a:xfrm>
            <a:off x="7429680" y="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783936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V. Difficultés rencontrées et recommandation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610F-4213-4AC7-B037-C17444EF16EF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1AEC-52BC-404B-A9A5-2107F351BA34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3000"/>
          </a:bodyPr>
          <a:p>
            <a:pPr marL="320400" indent="-32040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ifficulté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Surconsommation et surprescriptio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 non respect de la convention par les centres de santé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Transmission tardive des factures dont accumulation de factures parfois d’un an et même plus pour certain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 manque de collaboration et le mauvais traitement de certains agents de santé vis-à-vis des mutualist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a forte demande par les bénéficiaires des produits de spécialités (ceci entraine le désintérêt de la population et la désinscription des membres)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8" descr=""/>
          <p:cNvPicPr/>
          <p:nvPr/>
        </p:nvPicPr>
        <p:blipFill>
          <a:blip r:embed="rId1"/>
          <a:stretch/>
        </p:blipFill>
        <p:spPr>
          <a:xfrm>
            <a:off x="7429680" y="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783936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V. Difficultés rencontrées et recommandation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8E66-1DCD-41DD-A896-8BFD88C5B023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D65A-B3C5-4FC2-BAF4-48E1B31771D9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9000"/>
          </a:bodyPr>
          <a:p>
            <a:pPr marL="306360" indent="-30636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Recommand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Mettre des médecins conseil à la disposition des mutuel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Appuyer les mutuelles dans la sensibilisation des agents de santé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Enseigner des modules sur l’assurance maladie et les mutuelles de santé des écoles de formation de santé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Travailler à la disponibilité des MEG et sensibiliser la population à leur consommation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Renforcer les capacités des responsables et gestionnaires des mutuelles de santé sur le PCMS de l’UEMOA, la loi sur la mutualité sociale du Burkina et l’AMU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2119-09EC-4EA9-AC29-786EBEC36CC7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C3A1-AC80-4EA3-9CAB-16A53A145915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900" spc="-1" strike="noStrike">
                <a:solidFill>
                  <a:srgbClr val="009900"/>
                </a:solidFill>
                <a:latin typeface="comic"/>
              </a:rPr>
              <a:t>Merci de votre aimable  attention!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comic"/>
              </a:rPr>
              <a:t>Laafi Baoré, S’unir aujourd'hui pour garantir demain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comic"/>
              </a:rPr>
              <a:t>Contacts: 25 36 15 25/71 80 07 97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Tw Cen MT"/>
              </a:rPr>
              <a:t>Mail: msu.laafibaore@yahoo.fr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2" name="Picture 8" descr=""/>
          <p:cNvPicPr/>
          <p:nvPr/>
        </p:nvPicPr>
        <p:blipFill>
          <a:blip r:embed="rId1"/>
          <a:stretch/>
        </p:blipFill>
        <p:spPr>
          <a:xfrm>
            <a:off x="7572240" y="21420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PLAN DE PRESENTATION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E04C-3629-4B27-BBCC-EDC9416F73AE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60B5-EF42-4745-A21C-591C93E1297D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95280" y="2133360"/>
            <a:ext cx="8424720" cy="266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Naissance de la MSU-LB 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Conditions d’adhésion et de prise en char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Prestations prises offer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Statistiques sur l’évolution de la MSU-LB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ifficultés rencontrées et recommand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2" name="Picture 8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7696080" cy="723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. NAISSANCE DE LA MSU.LB  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6E17-7827-4AA4-AD74-693E0275B6CA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C41F-9DF4-46A8-BE71-6ACB3428F30A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57120" y="128556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9000"/>
          </a:bodyPr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Née de la volonté d’un certain nombre d’organisation de la société civile et d’entreprises (08)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Réalisée son étude de faisabilité sous la houlette du RAMS.BF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Tenue de son AGC le 30 juin 2006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Le lancement officiel 28 février 2007 au CMA du 30 sous la présidence du MTSS et le parrainage du Maire de la Commune de Ouagadougou de l’époqu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ébut des prestations en 1</a:t>
            </a:r>
            <a:r>
              <a:rPr b="0" lang="fr-FR" sz="2900" spc="-1" strike="noStrike" baseline="30000">
                <a:solidFill>
                  <a:srgbClr val="000000"/>
                </a:solidFill>
                <a:latin typeface="Tw Cen MT"/>
              </a:rPr>
              <a:t>er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 avril 200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7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85880" y="428760"/>
            <a:ext cx="7696080" cy="72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. NAISSANCE DE LA MSU.LB (suite)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CF2C-325E-44AA-8123-2A56F3B029EA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A6C4-0396-4309-ACA8-1A9282E13B7F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57120" y="1714680"/>
            <a:ext cx="8175600" cy="4665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4000"/>
          </a:bodyPr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 public cible de départ était constitué des membres des organisations mères de la mutuell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Chaque organisation a constitué une section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Au sein de chaque section il y a un bureau de la MSU-LB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Ce bureau est chargé de l’animation, l’enregistrement de nouveaux adhérents, de collecte des cotisations et de la gestion de la section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Une section (inter pro) s’est créée qui regroupe des personnes n’appartenant à aucune de ces organisation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Toutes les adhésions et cotisations sont reversées à l’unité gestio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2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7696440" cy="107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BE1B-EB42-47F6-B73B-694E45124313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5DE7-6C89-4499-A471-7FCEC5E4172A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8000" y="1988640"/>
            <a:ext cx="8351640" cy="431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3000"/>
          </a:bodyPr>
          <a:p>
            <a:pPr marL="320400" indent="-32040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Tw Cen MT"/>
              </a:rPr>
              <a:t>Conditions d’adhésion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aiement de frais d’adhésion de 2 500 frs pour une famille de 5 personnes (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adhérent + conjoint + enfants à charge de moins de 18 ans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Versement de cotisation de 12 000 frs par personne et par an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Verser au moins 6 mois de cotisation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pporter une copie simple d’extrait de naissance ou CNIB ou passeport et une photo de chaque inscrit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8" descr=""/>
          <p:cNvPicPr/>
          <p:nvPr/>
        </p:nvPicPr>
        <p:blipFill>
          <a:blip r:embed="rId1"/>
          <a:stretch/>
        </p:blipFill>
        <p:spPr>
          <a:xfrm>
            <a:off x="7572240" y="142920"/>
            <a:ext cx="13575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8" descr=""/>
          <p:cNvPicPr/>
          <p:nvPr/>
        </p:nvPicPr>
        <p:blipFill>
          <a:blip r:embed="rId1"/>
          <a:stretch/>
        </p:blipFill>
        <p:spPr>
          <a:xfrm>
            <a:off x="7429680" y="21420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760" y="404280"/>
            <a:ext cx="8029440" cy="86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suite1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A314-4BCA-4CF4-A749-ED2799F8AD4A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35A5-18F3-4D22-BD45-5B597E9DA0E4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95280" y="1628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Tw Cen MT"/>
              </a:rPr>
              <a:t>Conditions de prise en charge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Observer une période de stage de 03 mo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Se rendre dans une des 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26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 formations sanitaires conventionnées (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10 CSPS, 6 CM, 3 CMU, 5 CMA, l’OST et le CHU-YO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ccepter la prise en charge de 70%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résenter sa </a:t>
            </a:r>
            <a:r>
              <a:rPr b="0" lang="fr-FR" sz="27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carte 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de memb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ayer un ticket modérateur de 30%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8" descr=""/>
          <p:cNvPicPr/>
          <p:nvPr/>
        </p:nvPicPr>
        <p:blipFill>
          <a:blip r:embed="rId1"/>
          <a:stretch/>
        </p:blipFill>
        <p:spPr>
          <a:xfrm>
            <a:off x="7572240" y="142920"/>
            <a:ext cx="1571760" cy="10713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774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</a:t>
            </a:r>
            <a:br>
              <a:rPr sz="2800"/>
            </a:b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suite2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8A25-4FC5-4366-90F4-E1E04868561A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7539-5BDA-4A61-80F8-DA48780130B5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56760" y="1785600"/>
            <a:ext cx="8286840" cy="4403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lvl="1" marL="340920" indent="-340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Tw Cen MT"/>
              </a:rPr>
              <a:t>Circuit de prise en charge 1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résenter votre carte de membre au guichet de la formation sanitaire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a prise en charge au CHU-YO est faite sur présentation d’une </a:t>
            </a:r>
            <a:r>
              <a:rPr b="0" lang="fr-FR" sz="25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fiche de PEC </a:t>
            </a: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délivrée par l’UG,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ayer les 30% de vos frais médicaux: consultation, examen, hospitalisation…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En cas d’ordonnance présentez votre carte au dépôt pharmaceutique de la formation sanitaire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ayer les 30% des frais d’ordonnances (MEG)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0920" indent="-340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suite3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AF54-68AD-4B6A-8350-7461A8ABE303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8EC7-C215-4ED5-A724-CD53160C7756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28760" y="1904760"/>
            <a:ext cx="8501040" cy="4476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7000"/>
          </a:bodyPr>
          <a:p>
            <a:pPr lvl="1" marL="334080" indent="-33408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w Cen MT"/>
              </a:rPr>
              <a:t>Circuit de prise en charge 2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En cas de rupture de médicaments au dépôt,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chetez vos médicaments dans une pharmacie de la place à la totalité du montan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dressez une demande de remboursement au PCA de la MSU/LB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54360" indent="-238320">
              <a:spcBef>
                <a:spcPts val="53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9900"/>
                </a:solidFill>
                <a:latin typeface="Tw Cen MT"/>
              </a:rPr>
              <a:t>Pièces jointes (reçu d’achat, ordonnances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54360" indent="-238320">
              <a:spcBef>
                <a:spcPts val="53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9900"/>
                </a:solidFill>
                <a:latin typeface="Tw Cen MT"/>
              </a:rPr>
              <a:t>Même procédure si vous n’a pas été traité en que mutualiste (en cas d’oubli de votre carte par exemple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6200" indent="-286200">
              <a:spcBef>
                <a:spcPts val="624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696080" cy="934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II. Prestations prises en charge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0F34-BA20-4AD6-97C9-E0A688AC68D4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7D2B-7B61-43AD-B48A-8C46E0F9D5E7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9528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1"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Tw Cen MT"/>
              </a:rPr>
              <a:t>Dans les CSPS, CM (Les soins ambulatoires)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s soins ambulatoires : consultation curative, soins infirmiers, petite chirurgie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s Médicaments essentiels génériques (M.E.G.) de la liste nationale des médicaments essentiels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’accouchement normal 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a mise en observation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’évacuation vers le centre de référence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1:03:26Z</dcterms:created>
  <dc:creator>NOMBRE B.</dc:creator>
  <dc:description/>
  <dc:language>en-US</dc:language>
  <cp:lastModifiedBy>Poste 12</cp:lastModifiedBy>
  <dcterms:modified xsi:type="dcterms:W3CDTF">2015-06-09T08:42:55Z</dcterms:modified>
  <cp:revision>117</cp:revision>
  <dc:subject/>
  <dc:title>Présentation MSU/LB</dc:title>
</cp:coreProperties>
</file>