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AEDA-E5C1-413A-9E8B-3A293556BF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6693-367F-489F-971E-F224E5A7A8D8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D22F-1717-4E23-90A7-4012CD086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0270-9D7A-4D50-9C85-606C3D46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1C0D-63FE-496D-AF39-DF86736BE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1825-383B-455B-BAF0-8D70946E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6B98-F1D2-48EB-8E06-F417D2C8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DBF9-4140-4123-B7B9-90A10F74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CAE7-9CBF-45FE-980B-981E1E84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AFF6-7B84-405A-85C6-8E5C6BFF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B672-7A6F-41CE-BD34-E0D495CB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47B2-E33C-402E-AA53-4861C47D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9D57-8FAB-4CB3-BBAC-01D199A8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1283-6454-4CCE-AA4A-AF0C6DA5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50A6-40F5-42EF-B6AB-C273776A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B40C-9D0A-4F05-941E-0AD6AE97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7F50-3B48-4DC4-BF62-F02918AE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978D-ADA0-40DC-8227-23729E5A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23FE-5B66-4232-8E53-763548C93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BF64E7-FB7D-45EF-8ABC-A4BE97566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54F710-E23E-4DE8-9AB8-762F8F11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B0855B-B19D-453F-881B-211A8FFA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D96D1F-C6FC-46F4-BC92-527E0BE5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0455A8-16B9-4D59-A08D-CB1BE752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A251-544E-4D69-9B57-ECCCD2BD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CD98B5-4A37-432D-9C12-018C517C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E5A205-7A16-44C7-9699-F8CEF2B0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332900-E2D1-44F8-B2AA-DFF4A548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3EAC00-9194-414B-A701-0BC09B8C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8217BE-C43C-4CFE-B187-E87CB70C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4BC4A6-8BCF-4283-977B-1C971A70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77CF01-12E2-4A6D-9E21-FDEC422A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72F21D-3F05-438F-A550-D6F778EAE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1099B1-051D-4590-AA6E-7A16F1C3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46E68D-4D8F-4B18-99EC-FE6626BE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4536-2987-48AC-B222-68CBE2DD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FB2196-AD51-4CEF-BF32-74C02FFC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4CDD6A-C2CB-4D22-AA6B-820FF0FE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57084C-EDC2-4CDA-BD33-D21E8766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39E578-7FA1-4546-BFDC-04174F8A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A7DFDA-6104-487D-9D97-AFBB6832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BEC13A-033C-435B-935C-20D71682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F22F62-1521-49AE-BEA8-0ED4CC4A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FD0EF5-9A8E-4D04-B10D-7B251DE9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991AE6-0E8E-4741-8BC6-35A82E59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32F2E9-6A0C-4B16-8CC6-3FC402507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92A4-780E-4738-BF84-61886359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8D9B76-139A-4C3B-A0C9-842BE1DA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627841-B489-4321-9F36-FA4EA499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0DC81A-B2AC-4564-AC3D-56C8D951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95DBBD-1DA5-4C26-90C6-6411C8D7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29FCB2-2AD7-46DE-83BB-CC22D123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1FC698-6694-47CB-A9DB-B7920D9F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C5653D-B47C-4964-B17B-03AD5553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61A4A9-D9EB-438D-BB15-982DDBFB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D82630-A307-44EB-8A0D-A181CAB2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ADBD9D-A7E6-4CBB-AD6A-CE45CAEA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08AD-692A-4D98-9796-FAA81AF3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6A91C9-DDEF-4E7E-8625-14CA3A376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8BE35-8397-4AF4-8FD4-6C2344A5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9252D-4D14-47AC-A707-296F2EB7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5F0A0-8D04-4655-BD8E-FC4D6879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EB95B-57F2-4D19-8652-46379A77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6CF15-466D-47EB-8A96-2B3CD8B0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62A3C-A7CA-432E-8C24-83A1887E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3A232-C6E7-40F4-964B-5DC2D163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6C090-0208-4259-B54A-C581F06F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0447B-73BC-473C-ACF2-B4FC68F3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1FB5-7F87-4472-8C38-2D765693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4F061-1858-41ED-A618-4C2D9913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B84D9-C4E2-4CFB-AC5C-93C1A214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2D5E4-A73D-43FE-93F5-19695F64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72A7E6-4660-40CE-B935-9263DF31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9ABE77-00E2-4FF6-B1C4-DEADCDB3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70FC15-3C5B-4C4D-8CB3-2421623C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0ECF3F-EA08-4295-8687-777C4344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C847FD-2847-4928-BA33-6EB7AD65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1B7D5A-207C-40A8-A3F1-0037EA08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DEBD22-B26E-4E54-8934-61572B7B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27BD-D829-45F5-8534-6FC48343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086051-84A5-48B6-A814-D3918378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57F856-CC98-4874-9E4E-02FA63BF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8D3C45-98A8-4E1F-9815-A3E62F72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C389A3-E771-4463-ACDB-CA71F7AA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65F7CE-9D5C-4025-B83D-7A7BB3A8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9BDDF-C396-4A30-93DB-0B8255692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16867-6312-44C2-B0CE-7BAE1E19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DB256-2C0B-4C35-936A-E652CDF3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789BF-9F46-457F-9CEC-952E3337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BF47D-B6C9-4EA7-99A5-9D17A3C5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B86B-9C37-4EF2-93B9-C1754383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A2475-4638-4080-9D3A-BF89BD03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3E647-A04B-4C9C-AC31-786DF376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E3A97-DAB0-4453-BA39-402FE39D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8F9E6-5A9F-4B3A-B427-55C6C336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4759E-4D95-4812-A12E-78CC971B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8D93F-0D94-4578-A8C6-EC93A282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7ADCE-1200-4D0F-966C-7D1B3FABB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7765-C3E5-436B-AEBD-B38CABC21B01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DA42-A295-48A8-B922-0E80315B031F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2D21-36A8-446E-90FA-223006998A4B}" type="datetime">
              <a:rPr b="0" lang="fr-FR" sz="21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F1D6-8593-430F-AAA4-26F15C250DC2}" type="slidenum">
              <a:rPr b="1" lang="fr-FR" sz="16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23E8-CD69-4CEC-BFC6-3170891E01D9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84A3-D713-4843-A0E6-7C2AFC93DEB6}" type="slidenum">
              <a:rPr b="1" lang="fr-FR" sz="2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F49B-586E-466D-84E3-F94138D03AEC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7897-A656-4A15-958E-36C6D3BA50D9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4923-3AB8-4185-AC93-13E0E72B3464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0851-CF2E-41CA-9774-923283107CB5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E9CB-9DC7-49E6-AAE6-D4A1BA4B3B26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AD33-8F45-4749-BF30-5B516C59C51C}" type="slidenum">
              <a:rPr b="1" lang="fr-FR" sz="16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ED37-BFFC-46A0-A18B-3163515071DB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AAF0-21E8-441F-B633-0512ABD2F804}" type="slidenum">
              <a:rPr b="1" lang="fr-FR" sz="2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9260-8363-4E4B-A488-AC5228EB0F12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A136-B03C-4C88-98F1-C86164AED5A5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Recto.pdf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Fiche%20de%20prise%20en%20charge%20Hospitali&#232;re.doc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000920" cy="900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558bb8"/>
                </a:solidFill>
                <a:latin typeface="comic"/>
              </a:rPr>
              <a:t>PRÉSENTATION MSU/LB</a:t>
            </a:r>
            <a:r>
              <a:rPr b="0" lang="fr-FR" sz="4100" spc="-1" strike="noStrike">
                <a:solidFill>
                  <a:srgbClr val="558bb8"/>
                </a:solidFill>
                <a:latin typeface="Tw Cen MT"/>
              </a:rPr>
              <a:t> </a:t>
            </a:r>
            <a:endParaRPr b="0" lang="en-US" sz="41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899640" y="1915920"/>
            <a:ext cx="7272360" cy="8650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62626"/>
                </a:solidFill>
                <a:latin typeface="Tw Cen MT"/>
              </a:rPr>
              <a:t>Atelier sur l’Assurance Maladie Universelle</a:t>
            </a:r>
            <a:br>
              <a:rPr sz="800"/>
            </a:b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62626"/>
                </a:solidFill>
                <a:latin typeface="Tw Cen MT"/>
              </a:rPr>
              <a:t>  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Tw Cen MT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76320" y="606888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EEAC-98D5-4C2A-AB6F-336791E5F15F}" type="datetime">
              <a:rPr b="0" lang="fr-FR" sz="2100" spc="-1" strike="noStrike">
                <a:solidFill>
                  <a:srgbClr val="ffffff"/>
                </a:solidFill>
                <a:latin typeface="Arial"/>
                <a:ea typeface="Arial"/>
              </a:rPr>
              <a:t>31/07/26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8CCA-2089-4710-98D7-07EEE9EB5DBF}" type="slidenum">
              <a:rPr b="1" lang="fr-FR" sz="1600" spc="-1" strike="noStrike">
                <a:solidFill>
                  <a:srgbClr val="ebddc3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377" name="ZoneTexte 1"/>
          <p:cNvSpPr/>
          <p:nvPr/>
        </p:nvSpPr>
        <p:spPr>
          <a:xfrm>
            <a:off x="539640" y="3933720"/>
            <a:ext cx="7993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262626"/>
                </a:solidFill>
                <a:latin typeface="Tw Cen MT"/>
              </a:rPr>
              <a:t>Expérience de la Mutuelle de Santé Urbaine Laafi Baoré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900" spc="-1" strike="noStrike">
                <a:solidFill>
                  <a:srgbClr val="262626"/>
                </a:solidFill>
                <a:latin typeface="Tw Cen MT"/>
              </a:rPr>
              <a:t>                                                                                             </a:t>
            </a:r>
            <a:r>
              <a:rPr b="1" i="1" lang="fr-FR" sz="1900" spc="-1" strike="noStrike">
                <a:solidFill>
                  <a:srgbClr val="262626"/>
                </a:solidFill>
                <a:latin typeface="Tw Cen MT"/>
              </a:rPr>
              <a:t>Par Marcel Z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100" spc="-1" strike="noStrike">
                <a:solidFill>
                  <a:srgbClr val="262626"/>
                </a:solidFill>
                <a:latin typeface="Tw Cen MT"/>
              </a:rPr>
              <a:t>                                                                                                                                                                    </a:t>
            </a:r>
            <a:r>
              <a:rPr b="1" i="1" lang="fr-FR" sz="2000" spc="-1" strike="noStrike" u="sng">
                <a:solidFill>
                  <a:srgbClr val="262626"/>
                </a:solidFill>
                <a:uFillTx/>
                <a:latin typeface="Tw Cen MT"/>
              </a:rPr>
              <a:t>Président du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8" descr=""/>
          <p:cNvPicPr/>
          <p:nvPr/>
        </p:nvPicPr>
        <p:blipFill>
          <a:blip r:embed="rId1"/>
          <a:stretch/>
        </p:blipFill>
        <p:spPr>
          <a:xfrm>
            <a:off x="742968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696080" cy="736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II. Prestations prises en charge suite 3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03BA-BA5C-4329-A5B2-1897D676AEE5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3C64-8F29-4C00-82D4-0A34FE15F074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56760" y="1571400"/>
            <a:ext cx="8425080" cy="4786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Tw Cen MT"/>
              </a:rPr>
              <a:t>Dans les CMA, CMU et CHU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consultations généralistes et spécialisé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analyses de labo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soins dentaires sans prothès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soins ophtalmologiques sans lunett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opérations chirurgical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hospitalisations chirurgical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hospitalisations médical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’accouchement dystociqu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frais d’hôtellerie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8" descr=""/>
          <p:cNvPicPr/>
          <p:nvPr/>
        </p:nvPicPr>
        <p:blipFill>
          <a:blip r:embed="rId1"/>
          <a:stretch/>
        </p:blipFill>
        <p:spPr>
          <a:xfrm>
            <a:off x="7500960" y="142920"/>
            <a:ext cx="1571760" cy="107136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153280" cy="714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V. Statistiques d’évolution de la MSU/LB 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214200" y="1214280"/>
          <a:ext cx="8715600" cy="5643720"/>
        </p:xfrm>
        <a:graphic>
          <a:graphicData uri="http://schemas.openxmlformats.org/drawingml/2006/table">
            <a:tbl>
              <a:tblPr/>
              <a:tblGrid>
                <a:gridCol w="1452600"/>
                <a:gridCol w="1452600"/>
                <a:gridCol w="1452600"/>
                <a:gridCol w="1452600"/>
                <a:gridCol w="1452600"/>
                <a:gridCol w="14526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dhér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énéfici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0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tisation recouvr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 016 9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 957 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903 7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 123 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752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ise en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 990 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 785 5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 421 7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 847 3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027 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br de c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1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fréqu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3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,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6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recouv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5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9.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5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6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0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sinistral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93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  <p:sp>
        <p:nvSpPr>
          <p:cNvPr id="426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F459-8717-4875-92B2-545C37C80ACA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8" descr=""/>
          <p:cNvPicPr/>
          <p:nvPr/>
        </p:nvPicPr>
        <p:blipFill>
          <a:blip r:embed="rId1"/>
          <a:stretch/>
        </p:blipFill>
        <p:spPr>
          <a:xfrm>
            <a:off x="7429680" y="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783936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V. Difficultés rencontrées et recommandation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22D0-47F4-4DED-AD92-FB9BB07D84D6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22C3-96B2-438C-9CFA-CA7DCF2D8AA8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24000" y="1557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3000"/>
          </a:bodyPr>
          <a:p>
            <a:pPr marL="320400" indent="-32040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ifficulté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Surconsommation et surprescriptio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 non respect de la convention par les centres de santé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Transmission tardive des factures dont accumulation de factures parfois d’un an et même plus pour certain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 manque de collaboration et le mauvais traitement de certains agents de santé vis-à-vis des mutualist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a forte demande par les bénéficiaires des produits de spécialités (ceci entraine le désintérêt de la population et la désinscription des membres)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8" descr=""/>
          <p:cNvPicPr/>
          <p:nvPr/>
        </p:nvPicPr>
        <p:blipFill>
          <a:blip r:embed="rId1"/>
          <a:stretch/>
        </p:blipFill>
        <p:spPr>
          <a:xfrm>
            <a:off x="7429680" y="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783936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V. Difficultés rencontrées et recommandation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DA1B-9146-4E58-9FAB-15CC0DC1FDFD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0111-9654-4226-95AA-E0120951AC86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24000" y="1557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9000"/>
          </a:bodyPr>
          <a:p>
            <a:pPr marL="306360" indent="-30636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Recommand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Mettre des médecins conseil à la disposition des mutuell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Appuyer les mutuelles dans la sensibilisation des agents de santé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Enseigner des modules sur l’assurance maladie et les mutuelles de santé des écoles de formation de santé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Travailler à la disponibilité des MEG et sensibiliser la population à leur consommation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Renforcer les capacités des responsables et gestionnaires des mutuelles de santé sur le PCMS de l’UEMOA, la loi sur la mutualité sociale du Burkina et l’AMU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A98D-3617-4BA7-B0DB-823E0B96198B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5706-369D-4949-944B-5204C63FB875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900" spc="-1" strike="noStrike">
                <a:solidFill>
                  <a:srgbClr val="009900"/>
                </a:solidFill>
                <a:latin typeface="comic"/>
              </a:rPr>
              <a:t>Merci de votre aimable  attention!</a:t>
            </a:r>
            <a:endParaRPr b="0" lang="en-US" sz="3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comic"/>
              </a:rPr>
              <a:t>Laafi Baoré, S’unir aujourd'hui pour garantir demain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comic"/>
              </a:rPr>
              <a:t>Contacts: 25 36 15 25/71 80 07 97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Tw Cen MT"/>
              </a:rPr>
              <a:t>Mail: msu.laafibaore@yahoo.fr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2" name="Picture 8" descr=""/>
          <p:cNvPicPr/>
          <p:nvPr/>
        </p:nvPicPr>
        <p:blipFill>
          <a:blip r:embed="rId1"/>
          <a:stretch/>
        </p:blipFill>
        <p:spPr>
          <a:xfrm>
            <a:off x="7572240" y="214200"/>
            <a:ext cx="15717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2120" y="333360"/>
            <a:ext cx="7696080" cy="792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PLAN DE PRESENTATION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6C2A-7BD7-4176-B82D-B2BEB62A288E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88AE-366D-4C16-9E90-74D11AE17084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95280" y="2133360"/>
            <a:ext cx="8424720" cy="2663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Naissance de la MSU-LB 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Conditions d’adhésion et de prise en char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Prestations prises offer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Statistiques sur l’évolution de la MSU-LB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ifficultés rencontrées et recommand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2" name="Picture 8" descr=""/>
          <p:cNvPicPr/>
          <p:nvPr/>
        </p:nvPicPr>
        <p:blipFill>
          <a:blip r:embed="rId1"/>
          <a:stretch/>
        </p:blipFill>
        <p:spPr>
          <a:xfrm>
            <a:off x="7358040" y="214200"/>
            <a:ext cx="1571760" cy="1071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7696080" cy="723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. NAISSANCE DE LA MSU.LB  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BF4F-B9DD-4403-AA15-3D7B09307770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5090-7978-4BA0-B45A-05D6DC269CC2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57120" y="128556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9000"/>
          </a:bodyPr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Née de la volonté d’un certain nombre d’organisation de la société civile et d’entreprises (08)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Réalisée son étude de faisabilité sous la houlette du RAMS.BF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Tenue de son AGC le 30 juin 2006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Le lancement officiel 28 février 2007 au CMA du 30 sous la présidence du MTSS et le parrainage du Maire de la Commune de Ouagadougou de l’époqu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ébut des prestations en 1</a:t>
            </a:r>
            <a:r>
              <a:rPr b="0" lang="fr-FR" sz="2900" spc="-1" strike="noStrike" baseline="30000">
                <a:solidFill>
                  <a:srgbClr val="000000"/>
                </a:solidFill>
                <a:latin typeface="Tw Cen MT"/>
              </a:rPr>
              <a:t>er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 avril 2007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7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85880" y="428760"/>
            <a:ext cx="7696080" cy="72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. NAISSANCE DE LA MSU.LB (suite)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4B24-3EF3-4634-989D-1A797084E8C9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E483-3F66-460D-9D57-AB656183F6CD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57120" y="1714680"/>
            <a:ext cx="8175600" cy="4665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4000"/>
          </a:bodyPr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 public cible de départ était constitué des membres des organisations mères de la mutuelle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Chaque organisation a constitué une section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Au sein de chaque section il y a un bureau de la MSU-LB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Ce bureau est chargé de l’animation, l’enregistrement de nouveaux adhérents, de collecte des cotisations et de la gestion de la section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Une section (inter pro) s’est créée qui regroupe des personnes n’appartenant à aucune de ces organisation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Toutes les adhésions et cotisations sont reversées à l’unité gestio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2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7696440" cy="107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AC26-A0D6-47A6-AB90-D3000B310B07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1E11-CA91-4E92-9E1B-590625A32ECD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68000" y="1988640"/>
            <a:ext cx="8351640" cy="431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3000"/>
          </a:bodyPr>
          <a:p>
            <a:pPr marL="320400" indent="-32040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Tw Cen MT"/>
              </a:rPr>
              <a:t>Conditions d’adhésion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aiement de frais d’adhésion de 2 500 frs pour une famille de 5 personnes (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adhérent + conjoint + enfants à charge de moins de 18 ans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Versement de cotisation de 12 000 frs par personne et par an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Verser au moins 6 mois de cotisation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pporter une copie simple d’extrait de naissance ou CNIB ou passeport et une photo de chaque inscrit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7" name="Picture 8" descr=""/>
          <p:cNvPicPr/>
          <p:nvPr/>
        </p:nvPicPr>
        <p:blipFill>
          <a:blip r:embed="rId1"/>
          <a:stretch/>
        </p:blipFill>
        <p:spPr>
          <a:xfrm>
            <a:off x="7572240" y="142920"/>
            <a:ext cx="13575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8" descr=""/>
          <p:cNvPicPr/>
          <p:nvPr/>
        </p:nvPicPr>
        <p:blipFill>
          <a:blip r:embed="rId1"/>
          <a:stretch/>
        </p:blipFill>
        <p:spPr>
          <a:xfrm>
            <a:off x="7429680" y="21420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8760" y="404280"/>
            <a:ext cx="8029440" cy="863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suite1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023F-CEE2-4AE2-B7F9-CEC7197DA41A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0380-022C-4ACE-ABC4-D29B8E463867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95280" y="1628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Tw Cen MT"/>
              </a:rPr>
              <a:t>Conditions de prise en charge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Observer une période de stage de 03 moi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Se rendre dans une des 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26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 formations sanitaires conventionnées (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10 CSPS, 6 CM, 3 CMU, 5 CMA, l’OST et le CHU-YO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ccepter la prise en charge de 70%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résenter sa </a:t>
            </a:r>
            <a:r>
              <a:rPr b="0" lang="fr-FR" sz="27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carte 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de membr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ayer un ticket modérateur de 30%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8" descr=""/>
          <p:cNvPicPr/>
          <p:nvPr/>
        </p:nvPicPr>
        <p:blipFill>
          <a:blip r:embed="rId1"/>
          <a:stretch/>
        </p:blipFill>
        <p:spPr>
          <a:xfrm>
            <a:off x="7572240" y="142920"/>
            <a:ext cx="1571760" cy="10713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774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</a:t>
            </a:r>
            <a:br>
              <a:rPr sz="2800"/>
            </a:b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suite2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0DE8-6BFD-4A81-AA7B-25A937E576D2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E03A-284E-4BF6-9E27-30F49B7A54B1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56760" y="1785600"/>
            <a:ext cx="8286840" cy="4403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lvl="1" marL="340920" indent="-340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Tw Cen MT"/>
              </a:rPr>
              <a:t>Circuit de prise en charge 1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résenter votre carte de membre au guichet de la formation sanitaire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a prise en charge au CHU-YO est faite sur présentation d’une </a:t>
            </a:r>
            <a:r>
              <a:rPr b="0" lang="fr-FR" sz="25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fiche de PEC </a:t>
            </a: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délivrée par l’UG,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ayer les 30% de vos frais médicaux: consultation, examen, hospitalisation…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En cas d’ordonnance présentez votre carte au dépôt pharmaceutique de la formation sanitaire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ayer les 30% des frais d’ordonnances (MEG)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0920" indent="-340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suite3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D5F5-AF65-4914-9C57-6C8809E90581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E5BE-2169-43DD-9D1D-E1D2008C2872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28760" y="1904760"/>
            <a:ext cx="8501040" cy="4476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7000"/>
          </a:bodyPr>
          <a:p>
            <a:pPr lvl="1" marL="334080" indent="-33408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w Cen MT"/>
              </a:rPr>
              <a:t>Circuit de prise en charge 2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En cas de rupture de médicaments au dépôt,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chetez vos médicaments dans une pharmacie de la place à la totalité du montant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dressez une demande de remboursement au PCA de la MSU/LB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54360" indent="-238320">
              <a:spcBef>
                <a:spcPts val="53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9900"/>
                </a:solidFill>
                <a:latin typeface="Tw Cen MT"/>
              </a:rPr>
              <a:t>Pièces jointes (reçu d’achat, ordonnances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54360" indent="-238320">
              <a:spcBef>
                <a:spcPts val="53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9900"/>
                </a:solidFill>
                <a:latin typeface="Tw Cen MT"/>
              </a:rPr>
              <a:t>Même procédure si vous n’a pas été traité en que mutualiste (en cas d’oubli de votre carte par exemple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6200" indent="-286200">
              <a:spcBef>
                <a:spcPts val="624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696080" cy="934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II. Prestations prises en charge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07AC-D2DB-4513-A0CE-4702B57F1C7E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D0CA-7F2D-4447-85DD-F2582DDF5C60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9528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lvl="1"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Tw Cen MT"/>
              </a:rPr>
              <a:t>Dans les CSPS, CM (Les soins ambulatoires)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s soins ambulatoires : consultation curative, soins infirmiers, petite chirurgie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s Médicaments essentiels génériques (M.E.G.) de la liste nationale des médicaments essentiels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’accouchement normal 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a mise en observation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’évacuation vers le centre de référence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1:03:26Z</dcterms:created>
  <dc:creator>NOMBRE B.</dc:creator>
  <dc:description/>
  <dc:language>en-US</dc:language>
  <cp:lastModifiedBy>Poste 12</cp:lastModifiedBy>
  <dcterms:modified xsi:type="dcterms:W3CDTF">2015-06-09T08:42:55Z</dcterms:modified>
  <cp:revision>117</cp:revision>
  <dc:subject/>
  <dc:title>Présentation MSU/LB</dc:title>
</cp:coreProperties>
</file>