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CCA6-80C5-4BC3-BF62-3DD4D89F58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4EF1-3EC7-4230-B0D2-0C1301AED3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460-53D9-4DC8-A543-631F0B20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EBB1-ACE7-4D6B-9484-BA505971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7A6-758A-41F9-ABF5-1A0D6F33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7E3-A6D6-4DA4-9F63-F92C0B5B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8A1C-30F1-4B0A-B1F9-21BE2B33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22A9-861A-4C26-A0CF-A39DF49D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9836-46B5-4DAF-B716-CE552252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04BE-6196-4CB4-BDA8-450359E4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9649-E317-4925-87B1-8162FD29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94CD-0CEF-4E78-920F-2510EC4C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3E93-3494-4FE5-990E-DFB5DB7D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C6C-EF98-4005-B433-A3562FC3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3855-2E5C-45BA-87EA-83053182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7E8D-8CD3-46B9-8A58-C08EF599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D9BC-30E6-412B-93A4-119D2234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2CE6-2034-4032-8089-95FEE7EC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D440-CB18-4CD3-8F8B-F6212A73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062-B444-49FD-B36E-CDD29DE7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118-D311-471F-A975-35951EB4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481-CC57-42A6-9F90-CA2B5C02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A95-DC49-4519-8DBC-22D6DDBD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C57-0E62-410E-97B5-11ACD272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7F1-C8AB-47A4-BDEB-1FAB0CE1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EEF1-6ABE-4622-BCDC-331668AB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B98A-F45B-4B95-96A2-89C5E960B5BB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D7A8-F98B-47B4-BBF3-1E4DF14DD243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MUTUELLE DES FORCES ARMÉES NATIONALES (MUFAN)</a:t>
            </a:r>
            <a:r>
              <a:rPr b="0" lang="fr-FR" sz="5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5800"/>
            </a:br>
            <a:r>
              <a:rPr b="0" lang="fr-FR" sz="3600" spc="-1" strike="noStrike">
                <a:solidFill>
                  <a:srgbClr val="999900"/>
                </a:solidFill>
                <a:latin typeface="Garamond"/>
              </a:rPr>
              <a:t>prestations garanties et modalités de prise en charg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 colonel-major  Dominique ZO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onomiste de la sant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recteur de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urbe de demande d’adhésion en fonction de la prime (R2=0,51) (10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704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0980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1009800" y="1905120"/>
          <a:ext cx="7124400" cy="533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9800" y="1905120"/>
                    <a:ext cx="712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Dépenses de santé en fonction de l’âge (11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prime (cotisations)  (12)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43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ût  moyen de l’hospitalisation 3236,55f/ adhé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80%,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prime = 2588,8 franc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es 20% à la charge de l’adhérent (ticket modéra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rime équi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off= 2 fois prime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sous-off = 1,5 fois prime du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rimes par catégorie (1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fficiers          = 4843 (50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-officiers= 3632 (36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DR              = 2421,5 (2400) fran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II) Le panier de soins (1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66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ilitaire seul sans sa fami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es  géographiques de l’off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lateau technique national public/ à défaut, le priv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stations offer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édicaments          consultations spécialis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boratoire               Imagerie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ôtellerie                  Acte chirurg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V) Modalités de prise en charge (1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édicament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ayant l’AMM au Burkina Fa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escription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iques et spécialit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vitamines non thérapeut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fortifi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afonnement de l’ordonnance à 3 mois de trai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torisation spéciale si ordonnance &gt;100000 f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itement du couple en cas d’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duit d’hygiène, cosmétologie, aphrodisiaque 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non prise en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diction de PEC si un examen&gt;50 000 fr sauf dérogation (prélèvements envoyés en 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ultations spécial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ncip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7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age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cte chirurg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irurgie esthétique non 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plafonnement dans la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C de prothèse bilatérale à la polyclinique NDP pour un montant de 1,6 millions en mai 2015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ôtelleri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chambre d’hospitalis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cation des tarifs en vigueur dans le secteur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cas de prise en charge en clinique privée l’hôtellerie est incl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limitée au plateau technique national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(donc pas de greffes d’organe, de chirurgie cardiaque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Pas de PEC des prothèses dentaires, des verres correcte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C de la MUFAN = panier intermédiaire RAMU-B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lan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) La  genèse de la MUFAN (contexte et justific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) L’Etude de faisabilit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I) Le panier de so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V) Les conditions de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) Les résultats atte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) Les enseignements à ti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0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partenaires (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service assurance qual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u respect du palier de prescrip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e l’identité du bénéficiaire de la pres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des produits non pris en charge par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si quantité&gt; 3 mois de traitement ou 100 000 f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u réseau de parte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es procédures médico-milit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 des documents d’identification au presta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n PEC des examens demandés dans le cadre médico-administratif (aptitude pour stage ou mission) ou dans le cadre médico-légal (test d’AD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lafonnement à 250 000fr en l’absence d’une pathologie chronique identifiée (suspension de la PEC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ers payant avec un ticket modérateur de 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) Les résultats atteints    (2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de 95% des militaires sont membres de la MUF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giciel de traitement de données adapté à la gestion du portefeuille de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2014, plus de 10 000 adhérents PEC pour un montant de plus de 437 millions  la PEC la plus élevée étant de 3,2 mill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ût moyen/ adhérent PEC 2014: 25658 fran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2,5 milliards de francs distribués aux prestataires depuis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Verdana"/>
              </a:rPr>
              <a:t>Plus d’un milliard de francs de ré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hiffres d’affaires depuis 2008 (2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7120" y="2643120"/>
          <a:ext cx="8229600" cy="26146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Hôpital Ou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Aoudi Bo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MA Schiph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U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ffres d’affaire auprès de la MUF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1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I) Les enseignements à tirer    (2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Les déterminants de l’escalade des coû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atégorie socioéconomique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communication journée scientifique de Nouna 200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vitamines et fortifiant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,53% des dépenses en  médicaments en 2010; principe de l’élasticité prix de la demand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non respect des schémas thérapeut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cas du palu: 22,68% ordonnances et 21, 84% dépenses de santé; non respect des GDT et des algorithmes =&gt; molécule spécifique =1/3 du coût de l’ordonnance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0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recours excessif aux médicaments de spécialité ayant des équivalents génér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2 millions/ 364 millions soit 22% de surcoût de dépenses en médicaments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4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se en charge des gros risques et des petits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etits risques: facteur inflationniste (élasticité prix de la demande est for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ulation mutuelle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petit risque et contrôle social) </a:t>
            </a: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MU BF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gros risque dont la demande est inélast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fficacité des mécanismes de régulation (Régulateur des soins: GDT, algorith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e panier de soins en relation avec la capacité de gestion du risque mo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) Contexte et justifications (3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1) besoins croissants en matière de santé (démographique, épidémiologique , technologiq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2) fin de l’État prov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3) l’accessibilité aux soins comme objectif du PNDS au Burkina F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) forte attente du militaire pour une meilleure protection soci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) contexte réglementaire favorable à la création de structure de couvertures sociales (art 19 du statut général des personnels des F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) plus grande opérationnalité de l’Armé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7) contribution à l’équilibre financier  (les hommes à l’abri des usuri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8)  l’hôpital militaire au service réel du mili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II) Étude de faisabilité: objectifs (4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(étude faite en 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urcentage de militaires confrontés à une inaccessibilité financière aux so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pinion sur une mutuelle de san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Times New Roman"/>
              </a:rPr>
              <a:t>Étude de faisabilité: les points clés (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55,9% des enquêtés ont été confrontés à une inaccessibilité financière aux soins (intervalle de trois mo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849240" y="2058840"/>
            <a:ext cx="767232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7)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Object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696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ntentions formelles d’adhésion 61.98%  (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ants de l’adhé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a Caisse Épargne Santé     </a:t>
            </a:r>
            <a:r>
              <a:rPr b="0" i="1" lang="fr-FR" sz="2000" spc="-1" strike="noStrike" u="sng">
                <a:solidFill>
                  <a:srgbClr val="ff0000"/>
                </a:solidFill>
                <a:uFillTx/>
                <a:latin typeface="Verdana"/>
              </a:rPr>
              <a:t>(influence nég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a solidarité                  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’aversion pour le risque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</a:t>
            </a: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prime (solidarité: prime&lt;ou= 1000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Disposition à payer: Propositions de primes faites par les enquêtés (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990720" y="2286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5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8:19:19Z</dcterms:created>
  <dc:creator>DEP</dc:creator>
  <dc:description/>
  <dc:language>en-US</dc:language>
  <cp:lastModifiedBy>Baly Ouattara</cp:lastModifiedBy>
  <dcterms:modified xsi:type="dcterms:W3CDTF">2015-06-09T13:57:14Z</dcterms:modified>
  <cp:revision>127</cp:revision>
  <dc:subject/>
  <dc:title>MUTUELLE DES FAN</dc:title>
</cp:coreProperties>
</file>